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38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6CED-1A6E-4AD0-84EE-6E0BF11AF0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717A-90C3-4AE0-94CC-632DDCF246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D2F8-3C32-4A0F-ACE4-58C1F7BC1C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72F-0AF6-4981-B1A8-62784CCA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922-AB1B-455F-9B91-4E63CC63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535-81B9-441B-A082-718FF9D8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847-20E1-44C5-BF9A-90840FC4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ACF-86F4-4E08-A2BA-791E5B9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0FE-1ECF-4DD3-A022-06CC29F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7A3-FC64-4F30-A670-A06C6CE0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A6F-EF27-40AA-A4E9-A3CEA32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230-6927-4B6F-82F9-245F4853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2F1-FD47-4114-B52E-A18BF783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C40-AE7C-478C-8F40-98CD11C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AE2-ABF4-4DF2-AE41-AB64373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E680-EE60-4EFA-B999-140FE67475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13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나눔바른고딕"/>
                <a:ea typeface="나눔바른고딕"/>
              </a:rPr>
              <a:t>독일의 통일과 </a:t>
            </a:r>
            <a:br>
              <a:rPr sz="4800"/>
            </a:br>
            <a:r>
              <a:rPr b="0" lang="ko-KR" sz="4800" spc="-1" strike="noStrike">
                <a:solidFill>
                  <a:srgbClr val="000000"/>
                </a:solidFill>
                <a:latin typeface="나눔바른고딕"/>
                <a:ea typeface="나눔바른고딕"/>
              </a:rPr>
              <a:t>동서독 산재보험제도의 통합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8920" y="4581000"/>
            <a:ext cx="6156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제대학교 사회복지학과 이정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2017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일 근로복지연구원 세미나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2960" y="692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06064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 산재보험제도의 급여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호대상 위험은 산업재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근재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업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급여는 노동법에서 그 내용을 규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업급여를 대신하여 산재상병급여제도 운영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고 전 순 소득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준에서 최고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8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간 제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해연금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급자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소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의 장해상태가 존속할 경우 인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애의 정도에 따라 급여 차등지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 장해연금의 경우 소득상한선이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00Mark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적용되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여수준이 매우 낮았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저연금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60Mark 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고연금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75Ma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5280" y="1484280"/>
            <a:ext cx="8569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논쟁과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진정 산재보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echte Unfall-Versicherung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익활동에 종사하는 사람들의 제도적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악구조요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자원봉사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십자요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진정 산재보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위의 사회적 공헌도를 감안하여 예외적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은 약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의 사회적 행위들이 제도적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한편으로는 비진정 산재보험제도는 순수하게 사회정책적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능을 확장하는 역할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) 1974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학생재해제도의 도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한편으로 사회주의체제의 선전과 국가동원 체제의 유지를 위해 악용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) May-Day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동독 국가탄생일 등 대규모 군중동원에 활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29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72960" y="1181160"/>
            <a:ext cx="8569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②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제상황을 고려한 통근재해보험제도의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경우 통근재해에 대한 인정은 작업 종료 이후 귀가시간의 적절성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심으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195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대 이후 생필품과 식량의 만성적 부족현상으로 인해 여성 노동자들이 귀가시간을 지체하거나 통근경로를 이탈 또는 우회를 빈번하게 야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 사법당국은 귀가시간 우회 및 경로이탈 등에 있어 관대한 통근재해제도 운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③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디스크환자의 산재인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정부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57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엄격한 업무기인성 요건을 전제로 디스크 질환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업병 목록에 등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지만 디스크 질환은 질병의 인과관계에 대한 판단이 의학정보나 지식을 능가한다는 주장도 있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디스크 산재환자의 증가에 대처하여 동독정부는 업무기인성에 추가하여 질환의 후유증으로서 척추의 기능이 현저하게 제약을 받게 된 경우에만  인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의 인정건수의 하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1484280"/>
            <a:ext cx="8569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논쟁과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④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 논제에 대한 무관심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kip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내용 개체 틀 2"/>
          <p:cNvSpPr/>
          <p:nvPr/>
        </p:nvSpPr>
        <p:spPr>
          <a:xfrm>
            <a:off x="372960" y="2924280"/>
            <a:ext cx="856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독 산재보험제도의 발전과정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kip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내용 개체 틀 2"/>
          <p:cNvSpPr/>
          <p:nvPr/>
        </p:nvSpPr>
        <p:spPr>
          <a:xfrm>
            <a:off x="395280" y="3860640"/>
            <a:ext cx="856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내용 개체 틀 2"/>
          <p:cNvSpPr/>
          <p:nvPr/>
        </p:nvSpPr>
        <p:spPr>
          <a:xfrm>
            <a:off x="885960" y="1989000"/>
            <a:ext cx="2173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도적 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4360" y="2489040"/>
          <a:ext cx="7632720" cy="34452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8420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100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사회적 위험별로 분리하여 각자 독립적 형태로 운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보험제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국민연금제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료보험제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고용보험제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보험제도의 법률적 근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회법전 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7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권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+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제국사회보험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단일의 통합사회보험제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=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보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국민연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료보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보험의 법률적 근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노동법 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5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노동자와 사무직근로자의 사회보험에 관한 시행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 국가사회보험의 적용에 관한 시행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내용 개체 틀 2"/>
          <p:cNvSpPr/>
          <p:nvPr/>
        </p:nvSpPr>
        <p:spPr>
          <a:xfrm>
            <a:off x="885960" y="1916280"/>
            <a:ext cx="2173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정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8360" y="2349360"/>
          <a:ext cx="8064360" cy="418644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37944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700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조합주의형 산재보험제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업부문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34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개의 직역별 동업조합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+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선원동업조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19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개의 지역별 농업동업조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공공산재금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연방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주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자치단체별 산재금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+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소방산재금고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☞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공공기관별 담당기관은 수행청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Ausführungsbehör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개별 동업조합은 공법 상 독립적 법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자치운영기구로서 사회보험선거를 통해 대의원 및 경영책임자를 선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노동자 및 사무직근로자 일반사회보험제도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자유노동조합총연맹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FDGB)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관리운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동독 국가사회보험제도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중앙관리위원회 및 일선기관에 의한 관리운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양자는 비록 법인의 형태로 운영되지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자치운영의 원리는 적용되지 않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기업소의 사회보험사무는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‘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직장노동조합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’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 담당하며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구체적으로는 급여의 산정과 지급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사고의 판정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보험료 및 산재분담금의 징수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보장구의 지급 여부를 판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내용 개체 틀 2"/>
          <p:cNvSpPr/>
          <p:nvPr/>
        </p:nvSpPr>
        <p:spPr>
          <a:xfrm>
            <a:off x="885960" y="1916280"/>
            <a:ext cx="2173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및 재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2349360"/>
          <a:ext cx="8064720" cy="4232520"/>
        </p:xfrm>
        <a:graphic>
          <a:graphicData uri="http://schemas.openxmlformats.org/drawingml/2006/table">
            <a:tbl>
              <a:tblPr/>
              <a:tblGrid>
                <a:gridCol w="3311640"/>
                <a:gridCol w="4753080"/>
              </a:tblGrid>
              <a:tr h="35568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684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모든 사업장 및 사업은 당연적용 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보험료는 사업주가 전적으로 부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사업주의 산재보험료 납부에 따라 산재사고에 대한 기업의 민사상 보상책임을 면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개별 동업조합의 재정은 부과방식에 근거하여 운영되고 있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보험요율은 업종별 차등보험요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개별실적요율 그리고 개산 및 확정보험료 방식에 기초하여 결정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보험의 재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노동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월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00Mark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내의 보수월액을 대상으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기업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노동자 보수월액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2.5% 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탄광노동자의 경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2.5%) +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분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Umfallumla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정부보조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재정적 부족분의 보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분담금의 산정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분담금은 기업소별 총액임금을 기준으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0.3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범위에서 책정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구체적인 요율은 ①업종별 위험수준에 따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등급으로 분류하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②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 등급에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0.3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을 곱한 비율로 결정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구체적인 ③산재분담금은 다시 여기에 사업소별 임금총액을 곱하여 결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내용 개체 틀 2"/>
          <p:cNvSpPr/>
          <p:nvPr/>
        </p:nvSpPr>
        <p:spPr>
          <a:xfrm>
            <a:off x="885960" y="1916280"/>
            <a:ext cx="2173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피보험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11280" y="2421000"/>
          <a:ext cx="7848360" cy="423216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35568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648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피보험자의 정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근로자 또는 교육생의 신분으로 종사하고 있는 모든 사람으로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소득수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종사상 지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근로시간 등을 불문하고 당연적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기타 피보험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가내수공업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연안선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보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복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국제원조기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연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주정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자치단체 명예요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헌혈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사상자 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학생산재보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보육시설 및 유치원 원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학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대학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전문대학생 및 직업교육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회보험제도에서 실시하는 재활사업 참여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피보험자의 정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모든 형태의 근로자 및 직업교육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일반사회보험제도의 적용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모든 형태의 근로자로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월 소득월액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75 Mark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상인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개업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자유예술가 또는 상시적 가족종사자로서 연간 소득월액이 최소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900 Mark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상인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대학생 및 예비학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노조종사자 및 정당의 청년당원 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기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대중 동원행사의 참여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대체복무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인명구조요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헌혈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대학생의 봉사활동 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내용 개체 틀 2"/>
          <p:cNvSpPr/>
          <p:nvPr/>
        </p:nvSpPr>
        <p:spPr>
          <a:xfrm>
            <a:off x="372960" y="1268280"/>
            <a:ext cx="7151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내용 개체 틀 2"/>
          <p:cNvSpPr/>
          <p:nvPr/>
        </p:nvSpPr>
        <p:spPr>
          <a:xfrm>
            <a:off x="885960" y="1773360"/>
            <a:ext cx="3614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업재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근재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업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72960" y="2205000"/>
          <a:ext cx="8375760" cy="4397400"/>
        </p:xfrm>
        <a:graphic>
          <a:graphicData uri="http://schemas.openxmlformats.org/drawingml/2006/table">
            <a:tbl>
              <a:tblPr/>
              <a:tblGrid>
                <a:gridCol w="3838680"/>
                <a:gridCol w="4537080"/>
              </a:tblGrid>
              <a:tr h="365760"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1640"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정의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업재해란 업무와 관련한 행위로 인한 사고일 것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산재사고는 작업도구의 유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수리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설치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보수의 과정에서 발생한 사고 또한 산업재해로 인정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 이외에도 현금인출기에서 월급의 인출 역시 산재의 범주에 포함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통근재해의 인정범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직장과 집 사이 직선노상의 사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돌봄시설에 아동의 위탁 또는 직장동료와의 카풀 등을 위한 출퇴근 경로의 우회도 산업재해로 인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정의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업재해란 노동법전 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2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조의 규정에서 규정한 종류의 사고로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외부적 요인으로 인하여 갑자기 발생한 신체적 피해를 의미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기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문화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․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스포츠행사 참가 또는 진행과정의 사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협동농장종사자의 사고 등에 대해서도 산업재해로 인정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다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노동자의 고의 및 중대과실 또는 음주 관련 사고 등에 대해서는 산재 불인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통근재해의 인정범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출퇴근 그리고 업무와 관련성이 있는 외근 중의 사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통근재해의 여부 판정은 직장노동조합에서 담당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내용 개체 틀 2"/>
          <p:cNvSpPr/>
          <p:nvPr/>
        </p:nvSpPr>
        <p:spPr>
          <a:xfrm>
            <a:off x="372960" y="1268280"/>
            <a:ext cx="7151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내용 개체 틀 2"/>
          <p:cNvSpPr/>
          <p:nvPr/>
        </p:nvSpPr>
        <p:spPr>
          <a:xfrm>
            <a:off x="885960" y="1773360"/>
            <a:ext cx="3614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업재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근재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업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72960" y="2205000"/>
          <a:ext cx="8375760" cy="4124520"/>
        </p:xfrm>
        <a:graphic>
          <a:graphicData uri="http://schemas.openxmlformats.org/drawingml/2006/table">
            <a:tbl>
              <a:tblPr/>
              <a:tblGrid>
                <a:gridCol w="3838680"/>
                <a:gridCol w="4537080"/>
              </a:tblGrid>
              <a:tr h="388800"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5720"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직업병으로서의 인정은 직업병 시행령에 수록된 질병으로서 업무와의 관련성이 입증되어야 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직무와 관련성이 매우 높은 것으로 인정될 경우 비록 시행령에 포함되어 있지 않더라도 예외적으로 직업병으로 인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11520" bIns="1152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노동법전 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2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조의 규정에 따라 질병의 소인이 업무와 관련성이 높은 것으로 인정되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직업병 목록에 포함된 질병일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직업병으로서의 소견이 강력하게 뒷받침될 경우 비록 직업병 목록에 수록되어 있지 않더라도 직업병으로서 인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 경우 해당 질병은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‘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상급판정위원회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’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제청에 따라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‘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산업의료중앙연구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Zentralinstitut für Arbeitsmedizin)’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에서 직업병으로서의 인정 여부를 결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1040" marR="41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 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   차 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58920" y="1206000"/>
            <a:ext cx="69343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독일의 분단과 상이한 발전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서독 사회정책의 기본이념과 특징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사회보장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서독 산재보험제도의 비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주의 동독체제의 모순구조와 독일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순구조와 독일의 정치적 통일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일 과도기의 사회정책적 도전요인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서독 사회통합의 주요기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 산재보험제도의 재구축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서독 산재보험의 통합과 관련한 주요 이슈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일의 경제 사회적 성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.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론 및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사점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내용 개체 틀 2"/>
          <p:cNvSpPr/>
          <p:nvPr/>
        </p:nvSpPr>
        <p:spPr>
          <a:xfrm>
            <a:off x="885960" y="1916280"/>
            <a:ext cx="30621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예방 및 긴급처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421000"/>
          <a:ext cx="7848360" cy="41958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3888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7000"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개별 산재보험자들은 산재의 예방을 위해 적절한 수단과 방법을 동원하여야 할 법적 책임을 가지고 있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기술감독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업안전의 감독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전문상담 등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a)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기술적 산재예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업장 내부의 잠재적 위험시설의 퇴출과 작업안전도구의 도입을 통하여 사업장의 안전성 제고에 기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b)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업주의 계도와 교육을 통한 산재예방심리의 고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보건 및 산업안전에 대한 운영책임은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FDGB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–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업장위생검역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–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기업 또는 자치단체 차원의 보건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Gesundheitseinrichtung).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산업안전 및 보건에 대한 최종적 책임은 보건복지부에서 담당하였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안전감독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Sicherheitsinspektor)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업보건감독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Arbeitshygieneninspektor)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사업장별 법률의 준수 여부 감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예방에 있어서 사업주의 일차적 책임의식 고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내용 개체 틀 2"/>
          <p:cNvSpPr/>
          <p:nvPr/>
        </p:nvSpPr>
        <p:spPr>
          <a:xfrm>
            <a:off x="885960" y="1916280"/>
            <a:ext cx="30621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환자의 재활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72960" y="2276640"/>
          <a:ext cx="8302680" cy="4379760"/>
        </p:xfrm>
        <a:graphic>
          <a:graphicData uri="http://schemas.openxmlformats.org/drawingml/2006/table">
            <a:tbl>
              <a:tblPr/>
              <a:tblGrid>
                <a:gridCol w="5062680"/>
                <a:gridCol w="3240000"/>
              </a:tblGrid>
              <a:tr h="332640">
                <a:tc>
                  <a:txBody>
                    <a:bodyPr lIns="63720" rIns="63720" tIns="17640" bIns="176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720" marR="63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17640" bIns="176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720" marR="63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7120">
                <a:tc>
                  <a:txBody>
                    <a:bodyPr lIns="63720" rIns="63720" tIns="17640" bIns="176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a)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료재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요양급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적절하고 합리적인 수준의 의료지원을 통하여 증상의 악화나 재발을 방지함으로써 산재로 인한 후유증상을 최소화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급여의 종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료서비스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약제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운동처방을 위한 보조도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간병급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작업치료 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b)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직업재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환자가 신체적 손상에도 불구하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잔존능력을 동원하여 자신의 적성과 능력에 적합한 경제적 자립을 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c)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요양치료나 재활치료기간의 특별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휴업급여 또는 전환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동경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간병급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가족방문 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장애인스포츠 경비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요양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720" marR="63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17640" bIns="176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일반재해나 일반질병에 대한 요양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료서비스 및 보장구 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재가간병인 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직업재활과 원직장 복귀의 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신체적 병리현상으로 작업을 계속 수행하게 될 경우 심각한 질환이 예상될 경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직무전환과 그로 인한 임금삭감의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50%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를 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-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환자가 요양치료나 기타 현금급여를 받게 될 경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 기간동안 산재보험의 가입기간으로 인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720" marR="63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내용 개체 틀 2"/>
          <p:cNvSpPr/>
          <p:nvPr/>
        </p:nvSpPr>
        <p:spPr>
          <a:xfrm>
            <a:off x="372960" y="133992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내용 개체 틀 2"/>
          <p:cNvSpPr/>
          <p:nvPr/>
        </p:nvSpPr>
        <p:spPr>
          <a:xfrm>
            <a:off x="885960" y="1851120"/>
            <a:ext cx="6781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사고에 대한 경제적 보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근로자에 대한 급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65040" y="2324160"/>
          <a:ext cx="8454960" cy="3970440"/>
        </p:xfrm>
        <a:graphic>
          <a:graphicData uri="http://schemas.openxmlformats.org/drawingml/2006/table">
            <a:tbl>
              <a:tblPr/>
              <a:tblGrid>
                <a:gridCol w="4135680"/>
                <a:gridCol w="4319280"/>
              </a:tblGrid>
              <a:tr h="379440"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1000"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휴업급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부상이나 질병의 치료로 인하여 취업하지 못한 기간에 대해 지급하는 급여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전환급여는 직업재활의 기간동안 제공되는 급여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휴업급여에 대해서는 소득상한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Höchst- einkommensgrenze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 적용되지 않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사업주의 휴업급여는 전년도 평균임금을 기준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450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일을 나눈 금액으로 결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환자에 대한 상병급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휴업급여를 대신하여 상병급여가 지급되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는 전년도의 순평균임금의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수준으로 책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근로자가 상급병원이나 휴양시설로의 전원 시에도 상병급여가 지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문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스포츠 등 대규모 동원 대회에서의 부상 시에도 동일한 상병급여 지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상병급여는 최대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78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주의 기간동안 지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내용 개체 틀 2"/>
          <p:cNvSpPr/>
          <p:nvPr/>
        </p:nvSpPr>
        <p:spPr>
          <a:xfrm>
            <a:off x="372960" y="1197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내용 개체 틀 2"/>
          <p:cNvSpPr/>
          <p:nvPr/>
        </p:nvSpPr>
        <p:spPr>
          <a:xfrm>
            <a:off x="885960" y="1628640"/>
            <a:ext cx="6781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사고에 대한 경제적 보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근로자에 대한 급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2060640"/>
          <a:ext cx="8351640" cy="4686120"/>
        </p:xfrm>
        <a:graphic>
          <a:graphicData uri="http://schemas.openxmlformats.org/drawingml/2006/table">
            <a:tbl>
              <a:tblPr/>
              <a:tblGrid>
                <a:gridCol w="3311640"/>
                <a:gridCol w="5040000"/>
              </a:tblGrid>
              <a:tr h="333360"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760"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장해연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수급자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로 인하여 최소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3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주 이상의 기간동안 근로능력의 하락을 겪게 되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 경우 근로능력은 최소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상이 되어야 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완전장해연금은 개인의 전년도 평균임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/3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수준으로 결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장해연금의 소득상한액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6,000DM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으로 책정되어 있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중증장애인의 연금에 대해서는 아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명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아동급여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까지 추가 지급되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대학생 또는 군인의 경우 최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까지 연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장해연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수급자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로 인하여 최소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상의 취업능력 상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완전장해연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=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평균임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/3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수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00Mark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를 상회하는 평균임금은 계산에서 고려하지 않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50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6.3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미만의 저연금자에 대해서는 별도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50Mark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가산금을 지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 이외에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6.3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상의 중증장해자에 대해서는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50Mark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가산금 별도 지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맹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중증의 요개호자에 대하여 장해연금과 별도로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40Mark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가산금 지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장해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6.3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상의 사람에 대한 최저연금은 월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470Mark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에 해당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이러한 중증장해인에 대해서는 최대 월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00Mark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배우자수당이 추가로 지원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나아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5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상의 장해자에 대해서는 월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아동수당이 별도로 지급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내용 개체 틀 2"/>
          <p:cNvSpPr/>
          <p:nvPr/>
        </p:nvSpPr>
        <p:spPr>
          <a:xfrm>
            <a:off x="885960" y="1916280"/>
            <a:ext cx="67816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사고에 대한 경제적 보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근로자에 대한 급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84360" y="2421000"/>
          <a:ext cx="7775280" cy="4049640"/>
        </p:xfrm>
        <a:graphic>
          <a:graphicData uri="http://schemas.openxmlformats.org/drawingml/2006/table">
            <a:tbl>
              <a:tblPr/>
              <a:tblGrid>
                <a:gridCol w="2232000"/>
                <a:gridCol w="5543280"/>
              </a:tblGrid>
              <a:tr h="379440"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0200"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6840" bIns="684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사고 피해에 대한 기업의 보상 의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사고로 인한 임금 및 연금의 감소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신체적 피해의 극복과 직장 및 사회복귀를 위해 소모한 비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기타 치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작업복 또는 안경 등 실물적 피해에 대한 보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기업의 중대과실로 인한 산재사고의 경우 기업소의 별도 보상의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기업소는 다음의 경우에 한하여 보상의무로부터 면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적절한 교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정당한 지시 그리고 감독에도 불구하고 노동자의 부주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과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고의 등으로 발생한 사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내용 개체 틀 2"/>
          <p:cNvSpPr/>
          <p:nvPr/>
        </p:nvSpPr>
        <p:spPr>
          <a:xfrm>
            <a:off x="372960" y="1197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내용 개체 틀 2"/>
          <p:cNvSpPr/>
          <p:nvPr/>
        </p:nvSpPr>
        <p:spPr>
          <a:xfrm>
            <a:off x="885960" y="1628640"/>
            <a:ext cx="6781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사고에 대한 경제적 보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근로자의 사망에 대한 급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11280" y="1989000"/>
          <a:ext cx="7921440" cy="4781520"/>
        </p:xfrm>
        <a:graphic>
          <a:graphicData uri="http://schemas.openxmlformats.org/drawingml/2006/table">
            <a:tbl>
              <a:tblPr/>
              <a:tblGrid>
                <a:gridCol w="4321080"/>
                <a:gridCol w="3600360"/>
              </a:tblGrid>
              <a:tr h="310320"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0"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장제급여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사고 전 연평균임금의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/12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단 최저금액은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400DM.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시신의 운구비용은 별도 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유족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대상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배우자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자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예외적으로 이혼한 배우자 또는 친척에게도 수급자격 인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급여수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배우자유족연금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):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①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망 후 첫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개월간은 완전연금 ☞ 연평균임금의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/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②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사망후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4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개월째부터는 연평균임금의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/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③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생존한 배우자가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45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 이상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장해등급에 해당 또는 미성년 자녀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명 이상 부양 시 완전연금 지급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④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수급자가 근로소득이나 기타 대체소득을 별도로 수령할 경우 별도로 정한 기초공제액을 초과하는 소득을 대상으로 그에 해당되는 금액의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40%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를 유족연금에서 감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장제비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400Mark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장제지원금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운구비용은 별도 실비지원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유족연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산재배우자유족연금은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년 또는 최대 노령연금의 수급자격이 발생하게 되는 시점까지 월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70Mark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금액으로 임시적으로만 제공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사망한 배우자의 월평균임금의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40%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0Mark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의 가산금이 지급되는 유족연금의 수급자격은 ①유족인 배우자가 여성인 경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0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남성인 경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5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 이상 ②생존한 배우자가 장애등급에 해당 ③사망 당시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 미만 아동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명 또는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8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 미만 아동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명 이상 양육 시 인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유족연금의 최저금액은 월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30Mark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내용 개체 틀 2"/>
          <p:cNvSpPr/>
          <p:nvPr/>
        </p:nvSpPr>
        <p:spPr>
          <a:xfrm>
            <a:off x="372960" y="1268280"/>
            <a:ext cx="7151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내용 개체 틀 2"/>
          <p:cNvSpPr/>
          <p:nvPr/>
        </p:nvSpPr>
        <p:spPr>
          <a:xfrm>
            <a:off x="885960" y="1773360"/>
            <a:ext cx="6781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사고에 대한 경제적 보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근로자의 사망에 대한 급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39640" y="2133720"/>
          <a:ext cx="8064720" cy="4618080"/>
        </p:xfrm>
        <a:graphic>
          <a:graphicData uri="http://schemas.openxmlformats.org/drawingml/2006/table">
            <a:tbl>
              <a:tblPr/>
              <a:tblGrid>
                <a:gridCol w="3672000"/>
                <a:gridCol w="4392720"/>
              </a:tblGrid>
              <a:tr h="333360"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720"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아동유족연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)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①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양친 사망 시 아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명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까지 연평균임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0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씩 지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②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편친 사망 시 연평균임금의 </a:t>
                      </a:r>
                      <a:r>
                        <a:rPr b="0" lang="en-US" sz="1400" spc="-1" strike="noStrike">
                          <a:solidFill>
                            <a:srgbClr val="ca56a7"/>
                          </a:solidFill>
                          <a:latin typeface="HY중고딕"/>
                        </a:rPr>
                        <a:t>%</a:t>
                      </a:r>
                      <a:r>
                        <a:rPr b="0" lang="ko-KR" sz="1400" spc="-1" strike="noStrike">
                          <a:solidFill>
                            <a:srgbClr val="ca56a7"/>
                          </a:solidFill>
                          <a:latin typeface="굴림"/>
                          <a:ea typeface="HY중고딕"/>
                        </a:rPr>
                        <a:t>씩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지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③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학업이나 군복무 시 최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세까지 연장지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유족보조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(Hinterlassenenbeihilf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중증의 산재장해자로서 산재 이외의 사유로 사망한 경우 그 배우자 또는 양친이 사망한 아동에게 지급되는 일회성의 급여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급여수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연간소득금액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재혼시의 유족급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배우자유족연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4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배를 일시금으로 지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아동유족연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수급자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산재로 인한 부모의 사망 또는 그 아동을 입양한 가정에게 자격 인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급여수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양친이 사망한 경우 부모의 평균임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30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와 정액의 가산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75Mark/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월 최저연금액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20Mark/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편친 사망의 경우 평균임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0% +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가산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60Mark/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최저연금액은 월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65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배우자유족연금의 수급요건을 미충족한 미망인의 경우 사망한 배우자 평균임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0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를 연금으로 지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여러 명의 유족연금 수급권자가 존재할 경우 그 합계가 사망한 가입자의 완전연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가산금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0%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를 초과할 수 없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2960" y="476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 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내용 개체 틀 2"/>
          <p:cNvSpPr/>
          <p:nvPr/>
        </p:nvSpPr>
        <p:spPr>
          <a:xfrm>
            <a:off x="372960" y="1413000"/>
            <a:ext cx="7151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요소들에 대한 동서독 비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내용 개체 틀 2"/>
          <p:cNvSpPr/>
          <p:nvPr/>
        </p:nvSpPr>
        <p:spPr>
          <a:xfrm>
            <a:off x="885960" y="1916280"/>
            <a:ext cx="67816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사고에 대한 경제적 보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근로자의 사망에 대한 급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11280" y="2386080"/>
          <a:ext cx="7993080" cy="4319640"/>
        </p:xfrm>
        <a:graphic>
          <a:graphicData uri="http://schemas.openxmlformats.org/drawingml/2006/table">
            <a:tbl>
              <a:tblPr/>
              <a:tblGrid>
                <a:gridCol w="3024000"/>
                <a:gridCol w="4969080"/>
              </a:tblGrid>
              <a:tr h="355680"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서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동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960"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연금의 재조정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각종의 연금 및 간병급여는 국민연금의 조정방식에 기초하여 매년 단위로 자동조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6480" bIns="6480" anchor="ctr">
                      <a:noAutofit/>
                    </a:bodyPr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연금의 병급규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서로 같은 종류의 연금이 경합될 경우 그중 높은 연금을 지급하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서로 다른 종류의 연금이 경합될 경우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,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이중 높은 연금은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0%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낮은 연금은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25%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를 각각 지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만약 두 가지가 모두 산재 관련 연금일 경우 높은 연금은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100%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그리고 낮은 연금은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50%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수준에서 동시 지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ｏ세 가지 이상의 서로 다른 연금수급권이 동시에 발생하였을 경우 세 번째부터의 연금은 중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127080" indent="-127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□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연금의 재조정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HY중고딕"/>
                        </a:rPr>
                        <a:t>: 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  <a:ea typeface="HY중고딕"/>
                        </a:rPr>
                        <a:t>자동조정장치 없음 재정 상황이나 정치적 고려에 따라 비정기적 임의조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3760" marR="23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사회주의 동독체제의 모순구조와 독일의 정치적 통일 과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주의 동독체제의 모순구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독의 대외적 위상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대 공업강국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주의권 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의 경제부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독의 대내적 현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적 물자부족사회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대 경제적 파산상태에 직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제적 위기현상의 원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격기구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price mechanism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부재로 인한 자원배분의 비효율성과 생필품에 대한 보조금제도로 인한 자원낭비의 문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낮은 노동생산성의 문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동생산성 서독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/3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광범위한 위장실업의 문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비능률적 임금구조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등주의적 임금체계로 인한 근로동기의 위축과 노동의 연성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방주의적 대외교역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비교우위에 입각한 대외교역의 장점 실종과 상품의 대외경쟁력 상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환 획득능력 부족과 대외부채의 급격한 증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업의 이윤추구동기 부재와 자급자족형 생산방식의 문제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품생산에 있어서 양적 질적 혁신동기 제약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업간 또는 기업간 분업과 협업을 통한 생산성과 전문성 제고를 위한 기반 미조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간접자본의 취약성과 심각한 환경오염 문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259920"/>
            <a:ext cx="86868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독일의 분단과 상이한 발전과정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합국 통치방향과 그 배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 영 프 소의 독일 분할점령과 독자적 관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독일의 강대국 부상을 차단하여 유럽의 항구적 평화 보장하기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성적으로 낙후된 농업국가로 전환‘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장 등 생산설비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로 및 항만 등 기간시설의 파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독일 영토의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¼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서 냉전의 시작과 독일의 분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영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의 자유진영 대 소련의 사회주의진영 대립 심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49. 05. 23.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독지역 독일연방공화국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D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탄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49. 10. 07.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지역 독일민주주의공화국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DR)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탄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냉전의 피해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단과 이산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수혜자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련의 남하와 적화지역의 확장 억제를 위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①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영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 간 갈등 및 이견의 강제적 조정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→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유진영의 영토를 아우르는 서독정부의 탄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② Marshall plan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→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강의 기적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Luft-Brueck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단의 폐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독지역으로 대량이주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단기간 동안 약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00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명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→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라인강 기적의 원동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사회정책의 핵심적 목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주민의 정착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량빈곤의 해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쟁피해자의 보상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asten-Ausgleich: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담조정의 차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76280" y="1197000"/>
            <a:ext cx="73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1945.05.08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독일의 무조건적 항복과 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 세계대전의 종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209160" indent="-209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1945.06.05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츠담 회담과 베를린 선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C:\Users\admin\Desktop\그림1.jpg"/>
          <p:cNvPicPr/>
          <p:nvPr/>
        </p:nvPicPr>
        <p:blipFill>
          <a:blip r:embed="rId1"/>
          <a:stretch/>
        </p:blipFill>
        <p:spPr>
          <a:xfrm>
            <a:off x="324000" y="531720"/>
            <a:ext cx="84960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독일의 정치적 통일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독일 통일의 배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구소련과 동구권의 개혁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개방 및 민주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주의체제에 대한 동독주민의 불만과 대규모 탈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헝가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폴란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체코 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독일 통일의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89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베를린 장벽의 붕괴와 통행제한조치의 폐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8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독지역 최초 최후의 자유선거 실시와 우파연합의 승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본법 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조에 근거하여 서독지역으로의 일방적 편입을 통한 급진적 통일방식 선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199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동서독 정부간 화폐 경제 사회통합을 위한 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차 국가협약의 체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력의 발효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99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부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폐통합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독화폐를 법정통화로 수용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폐의 교환비율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임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수준 이내의 금액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 : 1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머지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 : 1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균적으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.53 ; 1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제통합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독형 자유시장 경제체제로의 전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통합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독형 노동법과 사회보장법으로의 전환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체제전환과정에서의 경제적 사회적 충격을 흡수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재외국민연금법 적용제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199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 통일에 관한 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차 국가협약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일협약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체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력의 발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199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서독형 사회보장제도로의 통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과도기적 경과규정의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통일 과도기의 사회정책적 도전요인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체제전환과 경제적 충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급속한 경제통합과 동독화폐의 평가절상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산업기반의 붕괴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량실업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기업의 대외경쟁력 상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사회통합비용의 폭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급속한 물가인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역간 경제적 양극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임금을 기반으로 한 생산거점       지체된 욕구의 분출로 인한 소비시장으로 전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독경제의 서독종속성 심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6804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주문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량이주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생산인구의 공동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주규모의 추이와 특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3068640"/>
          <a:ext cx="8569080" cy="3470400"/>
        </p:xfrm>
        <a:graphic>
          <a:graphicData uri="http://schemas.openxmlformats.org/drawingml/2006/table">
            <a:tbl>
              <a:tblPr/>
              <a:tblGrid>
                <a:gridCol w="1253880"/>
                <a:gridCol w="1252800"/>
                <a:gridCol w="1749240"/>
                <a:gridCol w="1751040"/>
                <a:gridCol w="1417680"/>
                <a:gridCol w="1144440"/>
              </a:tblGrid>
              <a:tr h="376560">
                <a:tc rowSpan="2"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  주  규  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월경취업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→서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→서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→동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‧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간  순이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구권→동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160"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9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38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3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16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8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5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2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3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2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56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8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1,08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5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280" rIns="71280" tIns="35640" bIns="35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335.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1280" marR="712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1"/>
          <p:cNvSpPr/>
          <p:nvPr/>
        </p:nvSpPr>
        <p:spPr>
          <a:xfrm>
            <a:off x="250920" y="2275920"/>
            <a:ext cx="8572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통일 이후 지역간 인구이동의 추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1989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~1994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천명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실업문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독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자리가 권리로서 보장되는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일과도기 잠재되었던 위장실업이 본격적 현실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50920" y="3284640"/>
          <a:ext cx="8642160" cy="3141720"/>
        </p:xfrm>
        <a:graphic>
          <a:graphicData uri="http://schemas.openxmlformats.org/drawingml/2006/table">
            <a:tbl>
              <a:tblPr/>
              <a:tblGrid>
                <a:gridCol w="3030480"/>
                <a:gridCol w="879480"/>
                <a:gridCol w="789120"/>
                <a:gridCol w="787320"/>
                <a:gridCol w="790560"/>
                <a:gridCol w="788760"/>
                <a:gridCol w="787680"/>
                <a:gridCol w="788760"/>
              </a:tblGrid>
              <a:tr h="376200">
                <a:tc>
                  <a:txBody>
                    <a:bodyPr lIns="37080" rIns="37080" tIns="18360" bIns="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37080" rIns="37080" tIns="18360" bIns="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제활동참가자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,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,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,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,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,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,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,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7080" rIns="37080" tIns="18360" bIns="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업자수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업율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37080" rIns="37080" tIns="18360" bIns="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노동시장정책 수혜자 총수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,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,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37080" rIns="37080" tIns="18360" bIns="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업시간 단축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고용창출조치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업재교육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기퇴직제도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7080" marR="370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1"/>
          <p:cNvSpPr/>
          <p:nvPr/>
        </p:nvSpPr>
        <p:spPr>
          <a:xfrm>
            <a:off x="324000" y="2196720"/>
            <a:ext cx="856764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동독지역 노동시장현황의 변화 추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1989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~1995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천명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, 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2803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소득격차의 문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통일 이전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동독정권의 붕괴원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통일 이후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적 갈등요인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주의 요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-1995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까지 재정지원규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약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8,543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억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DM(500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원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서독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GDP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5%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중 절반 사회통합 비용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50920" y="3357720"/>
          <a:ext cx="8643960" cy="3193920"/>
        </p:xfrm>
        <a:graphic>
          <a:graphicData uri="http://schemas.openxmlformats.org/drawingml/2006/table">
            <a:tbl>
              <a:tblPr/>
              <a:tblGrid>
                <a:gridCol w="4454280"/>
                <a:gridCol w="1047960"/>
                <a:gridCol w="1046160"/>
                <a:gridCol w="1047600"/>
                <a:gridCol w="1047960"/>
              </a:tblGrid>
              <a:tr h="284040"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55800" rIns="55800" tIns="27720" bIns="2772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근로자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당 총액임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2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4,5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,9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7,1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3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4,1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8,4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6,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9,4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55800" rIns="55800" tIns="27720" bIns="2772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근로자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당 순임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,7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,0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5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,3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1,3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8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4,3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2,3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5,1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2,2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8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55800" rIns="55800" tIns="27720" bIns="2772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구당 월평균 가처분소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7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,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7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,1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,9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,5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0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2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27720" bIns="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,1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,0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8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5800" marR="55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"/>
          <p:cNvSpPr/>
          <p:nvPr/>
        </p:nvSpPr>
        <p:spPr>
          <a:xfrm>
            <a:off x="0" y="270720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</a:t>
            </a:r>
            <a:r>
              <a:rPr b="1" lang="en-US" sz="2000" spc="-1" strike="noStrike">
                <a:solidFill>
                  <a:srgbClr val="000000"/>
                </a:solidFill>
                <a:latin typeface="HY중고딕"/>
              </a:rPr>
              <a:t>‧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서독지역 소득의 변화 추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199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199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DM, %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357120" y="1571760"/>
          <a:ext cx="8501040" cy="4929120"/>
        </p:xfrm>
        <a:graphic>
          <a:graphicData uri="http://schemas.openxmlformats.org/drawingml/2006/table">
            <a:tbl>
              <a:tblPr/>
              <a:tblGrid>
                <a:gridCol w="3737160"/>
                <a:gridCol w="952560"/>
                <a:gridCol w="952200"/>
                <a:gridCol w="954360"/>
                <a:gridCol w="952200"/>
                <a:gridCol w="952560"/>
              </a:tblGrid>
              <a:tr h="652320">
                <a:tc>
                  <a:txBody>
                    <a:bodyPr lIns="44640" rIns="44640" tIns="22320" bIns="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정지원내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방정부의 재정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방자치단체간 재정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독일통일기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럽연합 재정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보험간 재정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재정지원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재정지원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재정지원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22320" bIns="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44640" marR="44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Rectangle 1"/>
          <p:cNvSpPr/>
          <p:nvPr/>
        </p:nvSpPr>
        <p:spPr>
          <a:xfrm>
            <a:off x="0" y="57564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동독지역에 대한 공공부문의 재정지원 규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199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～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995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1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억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360" y="140760"/>
            <a:ext cx="92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동서독 사회통합의 주요기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사회통합의 기본방향과 근거법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□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기본방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서독형 사회보장제도로 통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도 모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원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독립적 자치주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재정조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재정으로부터 독립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노사공동부담의 원칙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조합간 재정조정제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급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급여의 수급요건과 급여체계 일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급여수준은 동서독간 경제력 격차를 반영하여 지역간 차이를 인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서독 사회보장체계의 특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91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보장정책의 체제종속성과 경로의존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체제 이데올로기의 차이로 인한 동서독 사회보장제도 상호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극단적 이질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도적 근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스마르크형 사회보장정책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공유에 따른 동서독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보장제도의 유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서독 사회보장제도의 동질성과 이질성 공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법률적 근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『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화폐 경제 사회통합을 위한 국가협약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차 국가협약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』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장의 사회통합은 기본방향이나 원칙을 제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서독 정부가 취해야 할 입법조치 명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『독일의 통일을 위한 동서독 정부간 협약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차 국가협약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일협약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』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행정관리체계의 통합방법 및 절차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정수입 및 지출구조의 통합방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급여수준의 인상 및 조정방안 등 명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통합에서 합의된 사항의 이행을 위해 서독정부는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『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국가협약에 관한 수행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』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그리고 동독정부는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『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보험에 관한 법률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』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을 각각 제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타 동서독 법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재외국민연금법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서독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연금조정법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로자연금제도와 특별노령연금법의 폐지법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추가자율노령연금제도의 신설 국민연금제도와 통합법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연금전환법 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사회보험에 관한 법률의 주요 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독의 근로자사회보험과 국가사회보험의 통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도기적으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연말까지 통합사회보험공단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후 사회보험전환공단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Ueberleitungsanstal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으로 명칭 변경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운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보험재정의 제도별 분리 및 독립채산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서독 사회보험 급여의 수급요건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여체계의 외형적 구조 일치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만 급여수준은 동서독 지역격차를 반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매결연의 원칙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Paerchenprinz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량실업에 대한 대처방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실업보험제도의 도입과 고용촉진법 제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급적 측면의 정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대하고 포괄적인 직업교육정책과 조기퇴직장려정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수요적 측면의 정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광범위한 고용창출정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ABM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종의 공공근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조업단축제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독지역에 대한 한시적 특례규정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ega-ABM: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독의 실업자들이 주도하는 대규모적 공공근로사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예비창업회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경개선 또는 도로정비 등의 업무 국가로부터 위탁 수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득보장문제에 대처방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독형 공적연금제도의 도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독형 제도와 형식적 일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도의 직역별 분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로자 등 특혜형 제도의 폐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치운영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급여산정기준 및 보험료 부과기준 일치 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급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①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급여의 산정방식과 급여체계 일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②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독에 상응하는 급여수준으로 대대적 상향조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일전 서독의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0%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9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82%), 1998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까지 매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차례씩 급여의 인상 ③연금의 소득 및 보험료 연계성에 따라 개인별 급여수준의 차등화 ④동태적 연금제도로의 기능 전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빈곤문제의 해소를 위해 한시적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199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까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으로 사회가급연금제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서독 연금법의 단일화를 목적으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9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5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『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금전환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』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발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57120" y="1571760"/>
          <a:ext cx="8358120" cy="490824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484200">
                <a:tc>
                  <a:txBody>
                    <a:bodyPr lIns="34920" rIns="3492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독지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독지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040">
                <a:tc>
                  <a:txBody>
                    <a:bodyPr lIns="34920" rIns="3492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0. 6. 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0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1. 1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1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2. 1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2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3. 1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3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4. 1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4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5. 1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5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6. 1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6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97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0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3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5. 7.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2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52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52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9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9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19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19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5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5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87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82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88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88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9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00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032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081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,066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70.00 - 60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43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95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54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7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7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7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93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19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1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8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78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12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16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59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9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50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39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.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"/>
          <p:cNvSpPr/>
          <p:nvPr/>
        </p:nvSpPr>
        <p:spPr>
          <a:xfrm>
            <a:off x="-285840" y="57564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표준소득자 연금수급액의 동서독 지역간 비교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Euro, 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그림 1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8424720" cy="26607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468360" y="3141720"/>
            <a:ext cx="835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동서독지역 평균연금액과 노후 순소득의 비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2012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 연말기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독 지역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=100%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대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68000" y="404280"/>
            <a:ext cx="828036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평균연금액의 경우 이미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98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부터 동독지역이 서독지역을 추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1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동독지역 여성의 평균연금은 서독지역보다 약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0%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높게 나타났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그러나 노후 순소득의 경우 동독지역이 서독에 비해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%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내외로 낮은 것으로 나타났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공부조제도의 도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독형 사회부조제도의 폐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급여대상자나 급여수준이 극히 취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서독형 공공부조제도 단계적 도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득자료와 행정관리체계의 미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79280" y="4149720"/>
          <a:ext cx="8785440" cy="2360520"/>
        </p:xfrm>
        <a:graphic>
          <a:graphicData uri="http://schemas.openxmlformats.org/drawingml/2006/table">
            <a:tbl>
              <a:tblPr/>
              <a:tblGrid>
                <a:gridCol w="1739880"/>
                <a:gridCol w="943200"/>
                <a:gridCol w="873000"/>
                <a:gridCol w="871560"/>
                <a:gridCol w="871560"/>
                <a:gridCol w="871560"/>
                <a:gridCol w="871560"/>
                <a:gridCol w="871560"/>
                <a:gridCol w="871560"/>
              </a:tblGrid>
              <a:tr h="442800">
                <a:tc>
                  <a:txBody>
                    <a:bodyPr lIns="76680" rIns="76680" tIns="38520" bIns="38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 rowSpan="2"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독 지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천인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rowSpan="2"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동독 지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천인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76680" tIns="38520" bIns="38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6680" marR="7668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Rectangle 1"/>
          <p:cNvSpPr/>
          <p:nvPr/>
        </p:nvSpPr>
        <p:spPr>
          <a:xfrm>
            <a:off x="-181080" y="3212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동서독 공공부조제도 현금급여 수혜자의 연령별 분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199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천명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한양신명조"/>
              </a:rPr>
              <a:t>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질병 및 산업재해에 대한 대처방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료보장제도의 도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본방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독형 무상의료공급체계의 폐지→서독의 사회보험형 의료보장체계의 도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험공급자인 질병금고의 도입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험방식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역별 분리운영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치주의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독립채산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료공급체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민간개업의제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료공급기반 확충 및 현대화를 위한 재정지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성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민의 약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90%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료보험 적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□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서독 의료통합의 주요 쟁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독 의료보장체계 자체적 문제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료인력의 과잉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료보험 및 종합병원의 재정부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도하게 세분화된 조합주의 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독 의료보장 시스템의 강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보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외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입원의 긴밀한 연계체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폴리크리닉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총괄적 예방의료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대적 구조조정에 앞서 서독 의료보험조합들의 생존경쟁적 차원에서 동독지역으로 무분별한 제도적 확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서독 제도의 장점을 융합하기 위한 단계적 의료통합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진의료에 대한 국민들의 욕구와 동독의사들의 대대적 개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점을 가지고 있는 서독형 의료보장체계를 중심으로 급진적 통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421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 도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독형 직역별 분립형 산재보험조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개의 조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여종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여산정방식 및 급여수준 서독과 일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존의 산재연금을 서독식으로 재산정 및 비용의 산재보험조합 공동부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예방체계와 의료 및 재활체계의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2"/>
          <p:cNvSpPr/>
          <p:nvPr/>
        </p:nvSpPr>
        <p:spPr>
          <a:xfrm>
            <a:off x="2000160" y="572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서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342120" y="4428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이등변 삼각형 11" descr=""/>
          <p:cNvPicPr/>
          <p:nvPr/>
        </p:nvPicPr>
        <p:blipFill>
          <a:blip r:embed="rId1"/>
          <a:stretch/>
        </p:blipFill>
        <p:spPr>
          <a:xfrm>
            <a:off x="539640" y="442800"/>
            <a:ext cx="3679920" cy="957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290600" y="1066680"/>
            <a:ext cx="2135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이등변 삼각형 12"/>
          <p:cNvGrpSpPr/>
          <p:nvPr/>
        </p:nvGrpSpPr>
        <p:grpSpPr>
          <a:xfrm>
            <a:off x="4883040" y="438120"/>
            <a:ext cx="3700440" cy="1019160"/>
            <a:chOff x="4883040" y="438120"/>
            <a:chExt cx="3700440" cy="1019160"/>
          </a:xfrm>
        </p:grpSpPr>
        <p:pic>
          <p:nvPicPr>
            <p:cNvPr id="62" name="이등변 삼각형 12" descr=""/>
            <p:cNvPicPr/>
            <p:nvPr/>
          </p:nvPicPr>
          <p:blipFill>
            <a:blip r:embed="rId2"/>
            <a:stretch/>
          </p:blipFill>
          <p:spPr>
            <a:xfrm>
              <a:off x="4883040" y="438120"/>
              <a:ext cx="37004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13280" y="920880"/>
              <a:ext cx="17859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338040" y="1450800"/>
            <a:ext cx="4059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민주적 다원주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능력의 원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사회적 조정의 원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759200" y="1450800"/>
            <a:ext cx="401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민주적 중앙통제주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평등주의의 원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제한적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능력의 원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867280" y="652320"/>
            <a:ext cx="17798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회주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계획경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1476360" y="677880"/>
            <a:ext cx="1779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회적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장경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4299120"/>
          <a:ext cx="8280360" cy="251460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304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서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동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도별 독립성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재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앙통제와 제도의 통합운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독립적 재정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arafis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회계에 통합운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8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보험료의 의료보험 통합징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보험료의 국세청 징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치운영의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도 운영의 국가주도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태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태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험료의 노사 공동부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험료의 노사 공동부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활수준 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생계 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grpSp>
        <p:nvGrpSpPr>
          <p:cNvPr id="69" name="그룹 3"/>
          <p:cNvGrpSpPr/>
          <p:nvPr/>
        </p:nvGrpSpPr>
        <p:grpSpPr>
          <a:xfrm>
            <a:off x="7927920" y="2138400"/>
            <a:ext cx="965160" cy="1544760"/>
            <a:chOff x="7927920" y="2138400"/>
            <a:chExt cx="965160" cy="1544760"/>
          </a:xfrm>
        </p:grpSpPr>
        <p:pic>
          <p:nvPicPr>
            <p:cNvPr id="70" name="TextBox 8" descr=""/>
            <p:cNvPicPr/>
            <p:nvPr/>
          </p:nvPicPr>
          <p:blipFill>
            <a:blip r:embed="rId3"/>
            <a:stretch/>
          </p:blipFill>
          <p:spPr>
            <a:xfrm>
              <a:off x="7927920" y="2138400"/>
              <a:ext cx="96516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51"/>
            <p:cNvSpPr/>
            <p:nvPr/>
          </p:nvSpPr>
          <p:spPr>
            <a:xfrm>
              <a:off x="7965720" y="2387880"/>
              <a:ext cx="87336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공로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특    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사회보장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제    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2" name="그룹 2"/>
          <p:cNvGrpSpPr/>
          <p:nvPr/>
        </p:nvGrpSpPr>
        <p:grpSpPr>
          <a:xfrm>
            <a:off x="4500720" y="2243160"/>
            <a:ext cx="3225600" cy="1157400"/>
            <a:chOff x="4500720" y="2243160"/>
            <a:chExt cx="3225600" cy="1157400"/>
          </a:xfrm>
        </p:grpSpPr>
        <p:grpSp>
          <p:nvGrpSpPr>
            <p:cNvPr id="73" name="그룹 17"/>
            <p:cNvGrpSpPr/>
            <p:nvPr/>
          </p:nvGrpSpPr>
          <p:grpSpPr>
            <a:xfrm>
              <a:off x="4500720" y="2419200"/>
              <a:ext cx="1584360" cy="981360"/>
              <a:chOff x="4500720" y="2419200"/>
              <a:chExt cx="1584360" cy="981360"/>
            </a:xfrm>
          </p:grpSpPr>
          <p:grpSp>
            <p:nvGrpSpPr>
              <p:cNvPr id="74" name="그룹 11"/>
              <p:cNvGrpSpPr/>
              <p:nvPr/>
            </p:nvGrpSpPr>
            <p:grpSpPr>
              <a:xfrm>
                <a:off x="4639680" y="2419200"/>
                <a:ext cx="1256040" cy="659160"/>
                <a:chOff x="4639680" y="2419200"/>
                <a:chExt cx="1256040" cy="659160"/>
              </a:xfrm>
            </p:grpSpPr>
            <p:grpSp>
              <p:nvGrpSpPr>
                <p:cNvPr id="75" name="이등변 삼각형 60"/>
                <p:cNvGrpSpPr/>
                <p:nvPr/>
              </p:nvGrpSpPr>
              <p:grpSpPr>
                <a:xfrm>
                  <a:off x="4639680" y="2419200"/>
                  <a:ext cx="1256040" cy="584280"/>
                  <a:chOff x="4639680" y="2419200"/>
                  <a:chExt cx="1256040" cy="584280"/>
                </a:xfrm>
              </p:grpSpPr>
              <p:pic>
                <p:nvPicPr>
                  <p:cNvPr id="76" name="이등변 삼각형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9680" y="2419200"/>
                    <a:ext cx="1256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" name=""/>
                  <p:cNvSpPr/>
                  <p:nvPr/>
                </p:nvSpPr>
                <p:spPr>
                  <a:xfrm>
                    <a:off x="4958280" y="2685960"/>
                    <a:ext cx="57276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직선 연결선 61"/>
                <p:cNvSpPr/>
                <p:nvPr/>
              </p:nvSpPr>
              <p:spPr>
                <a:xfrm>
                  <a:off x="467208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" name="직선 연결선 62"/>
                <p:cNvSpPr/>
                <p:nvPr/>
              </p:nvSpPr>
              <p:spPr>
                <a:xfrm>
                  <a:off x="504864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0" name="직선 연결선 63"/>
                <p:cNvSpPr/>
                <p:nvPr/>
              </p:nvSpPr>
              <p:spPr>
                <a:xfrm>
                  <a:off x="544104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1" name="직선 연결선 64"/>
                <p:cNvSpPr/>
                <p:nvPr/>
              </p:nvSpPr>
              <p:spPr>
                <a:xfrm>
                  <a:off x="581292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82" name="타원 55"/>
              <p:cNvSpPr/>
              <p:nvPr/>
            </p:nvSpPr>
            <p:spPr>
              <a:xfrm>
                <a:off x="4502160" y="3110760"/>
                <a:ext cx="378360" cy="289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00"/>
                  </a:spcBef>
                  <a:buClr>
                    <a:srgbClr val="80808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83" name="타원 56"/>
              <p:cNvGrpSpPr/>
              <p:nvPr/>
            </p:nvGrpSpPr>
            <p:grpSpPr>
              <a:xfrm>
                <a:off x="4500720" y="3048120"/>
                <a:ext cx="345600" cy="304920"/>
                <a:chOff x="4500720" y="3048120"/>
                <a:chExt cx="345600" cy="304920"/>
              </a:xfrm>
            </p:grpSpPr>
            <p:pic>
              <p:nvPicPr>
                <p:cNvPr id="84" name="타원 5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00720" y="3048120"/>
                  <a:ext cx="3456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>
                  <a:off x="4569480" y="3111480"/>
                  <a:ext cx="15804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6" name="타원 57"/>
              <p:cNvGrpSpPr/>
              <p:nvPr/>
            </p:nvGrpSpPr>
            <p:grpSpPr>
              <a:xfrm>
                <a:off x="5739480" y="3048120"/>
                <a:ext cx="345600" cy="304920"/>
                <a:chOff x="5739480" y="3048120"/>
                <a:chExt cx="345600" cy="304920"/>
              </a:xfrm>
            </p:grpSpPr>
            <p:pic>
              <p:nvPicPr>
                <p:cNvPr id="87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39480" y="3048120"/>
                  <a:ext cx="3456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>
                  <a:off x="5808600" y="3111480"/>
                  <a:ext cx="15804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9" name="타원 58"/>
              <p:cNvGrpSpPr/>
              <p:nvPr/>
            </p:nvGrpSpPr>
            <p:grpSpPr>
              <a:xfrm>
                <a:off x="5347800" y="3048120"/>
                <a:ext cx="339840" cy="304920"/>
                <a:chOff x="5347800" y="3048120"/>
                <a:chExt cx="339840" cy="304920"/>
              </a:xfrm>
            </p:grpSpPr>
            <p:pic>
              <p:nvPicPr>
                <p:cNvPr id="90" name="타원 5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47800" y="3048120"/>
                  <a:ext cx="3398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>
                  <a:off x="5412600" y="3111480"/>
                  <a:ext cx="15804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92" name="타원 59"/>
              <p:cNvGrpSpPr/>
              <p:nvPr/>
            </p:nvGrpSpPr>
            <p:grpSpPr>
              <a:xfrm>
                <a:off x="4915440" y="3048120"/>
                <a:ext cx="345600" cy="304920"/>
                <a:chOff x="4915440" y="3048120"/>
                <a:chExt cx="345600" cy="304920"/>
              </a:xfrm>
            </p:grpSpPr>
            <p:pic>
              <p:nvPicPr>
                <p:cNvPr id="93" name="타원 5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915440" y="3048120"/>
                  <a:ext cx="3456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4982040" y="3111480"/>
                  <a:ext cx="15804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95" name="TextBox 53"/>
            <p:cNvSpPr/>
            <p:nvPr/>
          </p:nvSpPr>
          <p:spPr>
            <a:xfrm>
              <a:off x="4716360" y="2253960"/>
              <a:ext cx="115236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근로자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사회보험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그룹 17"/>
            <p:cNvGrpSpPr/>
            <p:nvPr/>
          </p:nvGrpSpPr>
          <p:grpSpPr>
            <a:xfrm>
              <a:off x="6141960" y="2419200"/>
              <a:ext cx="1584360" cy="981360"/>
              <a:chOff x="6141960" y="2419200"/>
              <a:chExt cx="1584360" cy="981360"/>
            </a:xfrm>
          </p:grpSpPr>
          <p:grpSp>
            <p:nvGrpSpPr>
              <p:cNvPr id="97" name="그룹 11"/>
              <p:cNvGrpSpPr/>
              <p:nvPr/>
            </p:nvGrpSpPr>
            <p:grpSpPr>
              <a:xfrm>
                <a:off x="6279840" y="2419200"/>
                <a:ext cx="1258560" cy="659160"/>
                <a:chOff x="6279840" y="2419200"/>
                <a:chExt cx="1258560" cy="659160"/>
              </a:xfrm>
            </p:grpSpPr>
            <p:grpSp>
              <p:nvGrpSpPr>
                <p:cNvPr id="98" name="이등변 삼각형 122"/>
                <p:cNvGrpSpPr/>
                <p:nvPr/>
              </p:nvGrpSpPr>
              <p:grpSpPr>
                <a:xfrm>
                  <a:off x="6279840" y="2419200"/>
                  <a:ext cx="1258560" cy="584280"/>
                  <a:chOff x="6279840" y="2419200"/>
                  <a:chExt cx="1258560" cy="584280"/>
                </a:xfrm>
              </p:grpSpPr>
              <p:pic>
                <p:nvPicPr>
                  <p:cNvPr id="99" name="이등변 삼각형 1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79840" y="2419200"/>
                    <a:ext cx="12585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>
                    <a:off x="6600600" y="2685960"/>
                    <a:ext cx="57384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01" name="직선 연결선 123"/>
                <p:cNvSpPr/>
                <p:nvPr/>
              </p:nvSpPr>
              <p:spPr>
                <a:xfrm>
                  <a:off x="631368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2" name="직선 연결선 124"/>
                <p:cNvSpPr/>
                <p:nvPr/>
              </p:nvSpPr>
              <p:spPr>
                <a:xfrm>
                  <a:off x="669096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3" name="직선 연결선 125"/>
                <p:cNvSpPr/>
                <p:nvPr/>
              </p:nvSpPr>
              <p:spPr>
                <a:xfrm>
                  <a:off x="708444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" name="직선 연결선 126"/>
                <p:cNvSpPr/>
                <p:nvPr/>
              </p:nvSpPr>
              <p:spPr>
                <a:xfrm>
                  <a:off x="7456680" y="2918520"/>
                  <a:ext cx="0" cy="15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05" name="타원 117"/>
              <p:cNvSpPr/>
              <p:nvPr/>
            </p:nvSpPr>
            <p:spPr>
              <a:xfrm>
                <a:off x="6141960" y="3110760"/>
                <a:ext cx="379080" cy="289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00"/>
                  </a:spcBef>
                  <a:buClr>
                    <a:srgbClr val="80808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06" name="타원 118"/>
              <p:cNvGrpSpPr/>
              <p:nvPr/>
            </p:nvGrpSpPr>
            <p:grpSpPr>
              <a:xfrm>
                <a:off x="6144480" y="3048120"/>
                <a:ext cx="340560" cy="304920"/>
                <a:chOff x="6144480" y="3048120"/>
                <a:chExt cx="340560" cy="304920"/>
              </a:xfrm>
            </p:grpSpPr>
            <p:pic>
              <p:nvPicPr>
                <p:cNvPr id="107" name="타원 11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44480" y="3048120"/>
                  <a:ext cx="3405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6208920" y="3111480"/>
                  <a:ext cx="15840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09" name="타원 119"/>
              <p:cNvGrpSpPr/>
              <p:nvPr/>
            </p:nvGrpSpPr>
            <p:grpSpPr>
              <a:xfrm>
                <a:off x="7385760" y="3048120"/>
                <a:ext cx="340560" cy="304920"/>
                <a:chOff x="7385760" y="3048120"/>
                <a:chExt cx="340560" cy="304920"/>
              </a:xfrm>
            </p:grpSpPr>
            <p:pic>
              <p:nvPicPr>
                <p:cNvPr id="110" name="타원 11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385760" y="3048120"/>
                  <a:ext cx="3405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7450920" y="3111480"/>
                  <a:ext cx="15840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12" name="타원 120"/>
              <p:cNvGrpSpPr/>
              <p:nvPr/>
            </p:nvGrpSpPr>
            <p:grpSpPr>
              <a:xfrm>
                <a:off x="6987240" y="3048120"/>
                <a:ext cx="346320" cy="304920"/>
                <a:chOff x="6987240" y="3048120"/>
                <a:chExt cx="346320" cy="304920"/>
              </a:xfrm>
            </p:grpSpPr>
            <p:pic>
              <p:nvPicPr>
                <p:cNvPr id="113" name="타원 12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987240" y="3048120"/>
                  <a:ext cx="3463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>
                  <a:off x="7053480" y="3111480"/>
                  <a:ext cx="15840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15" name="타원 121"/>
              <p:cNvGrpSpPr/>
              <p:nvPr/>
            </p:nvGrpSpPr>
            <p:grpSpPr>
              <a:xfrm>
                <a:off x="6554160" y="3048120"/>
                <a:ext cx="346320" cy="304920"/>
                <a:chOff x="6554160" y="3048120"/>
                <a:chExt cx="346320" cy="304920"/>
              </a:xfrm>
            </p:grpSpPr>
            <p:pic>
              <p:nvPicPr>
                <p:cNvPr id="116" name="타원 12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554160" y="3048120"/>
                  <a:ext cx="3463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>
                  <a:off x="6622560" y="3111480"/>
                  <a:ext cx="15840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spcBef>
                      <a:spcPts val="700"/>
                    </a:spcBef>
                    <a:buClr>
                      <a:srgbClr val="808080"/>
                    </a:buClr>
                    <a:buSzPct val="7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118" name="TextBox 115"/>
            <p:cNvSpPr/>
            <p:nvPr/>
          </p:nvSpPr>
          <p:spPr>
            <a:xfrm>
              <a:off x="6372360" y="2243160"/>
              <a:ext cx="110484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국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사회보험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9" name="Text Box 99"/>
          <p:cNvSpPr/>
          <p:nvPr/>
        </p:nvSpPr>
        <p:spPr>
          <a:xfrm>
            <a:off x="5292720" y="3591000"/>
            <a:ext cx="26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합주의의 원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가제도의 일부로서 운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0" name="그룹 1"/>
          <p:cNvGrpSpPr/>
          <p:nvPr/>
        </p:nvGrpSpPr>
        <p:grpSpPr>
          <a:xfrm>
            <a:off x="258840" y="2279520"/>
            <a:ext cx="4152960" cy="1980720"/>
            <a:chOff x="258840" y="2279520"/>
            <a:chExt cx="4152960" cy="1980720"/>
          </a:xfrm>
        </p:grpSpPr>
        <p:sp>
          <p:nvSpPr>
            <p:cNvPr id="121" name="Text Box 98"/>
            <p:cNvSpPr/>
            <p:nvPr/>
          </p:nvSpPr>
          <p:spPr>
            <a:xfrm>
              <a:off x="684000" y="3628800"/>
              <a:ext cx="3383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조합주의의 원칙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위험별 </a:t>
              </a: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/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직역별 분산운영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22" name="그룹 1"/>
            <p:cNvGrpSpPr/>
            <p:nvPr/>
          </p:nvGrpSpPr>
          <p:grpSpPr>
            <a:xfrm>
              <a:off x="258840" y="2279520"/>
              <a:ext cx="4152960" cy="960480"/>
              <a:chOff x="258840" y="2279520"/>
              <a:chExt cx="4152960" cy="960480"/>
            </a:xfrm>
          </p:grpSpPr>
          <p:grpSp>
            <p:nvGrpSpPr>
              <p:cNvPr id="123" name="그룹 41"/>
              <p:cNvGrpSpPr/>
              <p:nvPr/>
            </p:nvGrpSpPr>
            <p:grpSpPr>
              <a:xfrm>
                <a:off x="258840" y="2290320"/>
                <a:ext cx="3663360" cy="907920"/>
                <a:chOff x="258840" y="2290320"/>
                <a:chExt cx="3663360" cy="907920"/>
              </a:xfrm>
            </p:grpSpPr>
            <p:grpSp>
              <p:nvGrpSpPr>
                <p:cNvPr id="124" name="타원 34"/>
                <p:cNvGrpSpPr/>
                <p:nvPr/>
              </p:nvGrpSpPr>
              <p:grpSpPr>
                <a:xfrm>
                  <a:off x="258840" y="2290320"/>
                  <a:ext cx="1031760" cy="895680"/>
                  <a:chOff x="258840" y="2290320"/>
                  <a:chExt cx="1031760" cy="895680"/>
                </a:xfrm>
              </p:grpSpPr>
              <p:pic>
                <p:nvPicPr>
                  <p:cNvPr id="125" name="타원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8840" y="2290320"/>
                    <a:ext cx="103176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6" name=""/>
                  <p:cNvSpPr/>
                  <p:nvPr/>
                </p:nvSpPr>
                <p:spPr>
                  <a:xfrm>
                    <a:off x="428760" y="2436480"/>
                    <a:ext cx="640800" cy="55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27" name="타원 35"/>
                <p:cNvGrpSpPr/>
                <p:nvPr/>
              </p:nvGrpSpPr>
              <p:grpSpPr>
                <a:xfrm>
                  <a:off x="2358000" y="2290320"/>
                  <a:ext cx="1031760" cy="895680"/>
                  <a:chOff x="2358000" y="2290320"/>
                  <a:chExt cx="1031760" cy="895680"/>
                </a:xfrm>
              </p:grpSpPr>
              <p:pic>
                <p:nvPicPr>
                  <p:cNvPr id="128" name="타원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58000" y="2290320"/>
                    <a:ext cx="103176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2526840" y="2436480"/>
                    <a:ext cx="640800" cy="55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30" name="타원 36"/>
                <p:cNvGrpSpPr/>
                <p:nvPr/>
              </p:nvGrpSpPr>
              <p:grpSpPr>
                <a:xfrm>
                  <a:off x="1308240" y="2290320"/>
                  <a:ext cx="1031760" cy="895680"/>
                  <a:chOff x="1308240" y="2290320"/>
                  <a:chExt cx="1031760" cy="895680"/>
                </a:xfrm>
              </p:grpSpPr>
              <p:pic>
                <p:nvPicPr>
                  <p:cNvPr id="131" name="타원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08240" y="2290320"/>
                    <a:ext cx="103176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1477440" y="2436480"/>
                    <a:ext cx="640800" cy="55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33" name="TextBox 37"/>
                <p:cNvSpPr/>
                <p:nvPr/>
              </p:nvSpPr>
              <p:spPr>
                <a:xfrm>
                  <a:off x="476640" y="2580480"/>
                  <a:ext cx="56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SP 1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4" name="TextBox 38"/>
                <p:cNvSpPr/>
                <p:nvPr/>
              </p:nvSpPr>
              <p:spPr>
                <a:xfrm>
                  <a:off x="2574000" y="2580480"/>
                  <a:ext cx="569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SP 3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5" name="TextBox 39"/>
                <p:cNvSpPr/>
                <p:nvPr/>
              </p:nvSpPr>
              <p:spPr>
                <a:xfrm>
                  <a:off x="1525320" y="2580480"/>
                  <a:ext cx="569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SP 2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36" name="TextBox 40"/>
                <p:cNvSpPr/>
                <p:nvPr/>
              </p:nvSpPr>
              <p:spPr>
                <a:xfrm>
                  <a:off x="3412800" y="2555640"/>
                  <a:ext cx="509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·····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굴림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37" name="타원 35"/>
              <p:cNvGrpSpPr/>
              <p:nvPr/>
            </p:nvGrpSpPr>
            <p:grpSpPr>
              <a:xfrm>
                <a:off x="3374640" y="2279520"/>
                <a:ext cx="1037160" cy="960480"/>
                <a:chOff x="3374640" y="2279520"/>
                <a:chExt cx="1037160" cy="960480"/>
              </a:xfrm>
            </p:grpSpPr>
            <p:pic>
              <p:nvPicPr>
                <p:cNvPr id="138" name="타원 35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374640" y="2279520"/>
                  <a:ext cx="103716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3543120" y="2436120"/>
                  <a:ext cx="644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140" name="TextBox 38"/>
            <p:cNvSpPr/>
            <p:nvPr/>
          </p:nvSpPr>
          <p:spPr>
            <a:xfrm>
              <a:off x="3652920" y="2603160"/>
              <a:ext cx="58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SP 4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1" name="그룹 7"/>
            <p:cNvGrpSpPr/>
            <p:nvPr/>
          </p:nvGrpSpPr>
          <p:grpSpPr>
            <a:xfrm>
              <a:off x="423720" y="3241440"/>
              <a:ext cx="622080" cy="271440"/>
              <a:chOff x="423720" y="3241440"/>
              <a:chExt cx="622080" cy="271440"/>
            </a:xfrm>
          </p:grpSpPr>
          <p:grpSp>
            <p:nvGrpSpPr>
              <p:cNvPr id="142" name="그룹 2"/>
              <p:cNvGrpSpPr/>
              <p:nvPr/>
            </p:nvGrpSpPr>
            <p:grpSpPr>
              <a:xfrm>
                <a:off x="423720" y="3241440"/>
                <a:ext cx="622080" cy="271440"/>
                <a:chOff x="423720" y="3241440"/>
                <a:chExt cx="622080" cy="271440"/>
              </a:xfrm>
            </p:grpSpPr>
            <p:sp>
              <p:nvSpPr>
                <p:cNvPr id="143" name="직선 연결선 61"/>
                <p:cNvSpPr/>
                <p:nvPr/>
              </p:nvSpPr>
              <p:spPr>
                <a:xfrm>
                  <a:off x="501480" y="324576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44" name="타원 56"/>
                <p:cNvGrpSpPr/>
                <p:nvPr/>
              </p:nvGrpSpPr>
              <p:grpSpPr>
                <a:xfrm>
                  <a:off x="423720" y="3320280"/>
                  <a:ext cx="212400" cy="192600"/>
                  <a:chOff x="423720" y="3320280"/>
                  <a:chExt cx="212400" cy="192600"/>
                </a:xfrm>
              </p:grpSpPr>
              <p:pic>
                <p:nvPicPr>
                  <p:cNvPr id="145" name="타원 5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3720" y="3320280"/>
                    <a:ext cx="212400" cy="1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" name=""/>
                  <p:cNvSpPr/>
                  <p:nvPr/>
                </p:nvSpPr>
                <p:spPr>
                  <a:xfrm>
                    <a:off x="467280" y="3360960"/>
                    <a:ext cx="76320" cy="6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47" name="타원 58"/>
                <p:cNvGrpSpPr/>
                <p:nvPr/>
              </p:nvGrpSpPr>
              <p:grpSpPr>
                <a:xfrm>
                  <a:off x="828360" y="3320280"/>
                  <a:ext cx="217440" cy="192600"/>
                  <a:chOff x="828360" y="3320280"/>
                  <a:chExt cx="217440" cy="192600"/>
                </a:xfrm>
              </p:grpSpPr>
              <p:pic>
                <p:nvPicPr>
                  <p:cNvPr id="148" name="타원 5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28360" y="3320280"/>
                    <a:ext cx="217440" cy="1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9" name=""/>
                  <p:cNvSpPr/>
                  <p:nvPr/>
                </p:nvSpPr>
                <p:spPr>
                  <a:xfrm>
                    <a:off x="875520" y="3360960"/>
                    <a:ext cx="76320" cy="6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50" name="타원 59"/>
                <p:cNvGrpSpPr/>
                <p:nvPr/>
              </p:nvGrpSpPr>
              <p:grpSpPr>
                <a:xfrm>
                  <a:off x="621000" y="3320280"/>
                  <a:ext cx="212400" cy="192600"/>
                  <a:chOff x="621000" y="3320280"/>
                  <a:chExt cx="212400" cy="192600"/>
                </a:xfrm>
              </p:grpSpPr>
              <p:pic>
                <p:nvPicPr>
                  <p:cNvPr id="151" name="타원 5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1000" y="3320280"/>
                    <a:ext cx="212400" cy="1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" name=""/>
                  <p:cNvSpPr/>
                  <p:nvPr/>
                </p:nvSpPr>
                <p:spPr>
                  <a:xfrm>
                    <a:off x="667440" y="3360960"/>
                    <a:ext cx="76320" cy="6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53" name="직선 연결선 62"/>
                <p:cNvSpPr/>
                <p:nvPr/>
              </p:nvSpPr>
              <p:spPr>
                <a:xfrm>
                  <a:off x="705960" y="3241440"/>
                  <a:ext cx="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54" name="직선 연결선 62"/>
                <p:cNvSpPr/>
                <p:nvPr/>
              </p:nvSpPr>
              <p:spPr>
                <a:xfrm>
                  <a:off x="916200" y="324972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55" name="직선 연결선 4"/>
              <p:cNvSpPr/>
              <p:nvPr/>
            </p:nvSpPr>
            <p:spPr>
              <a:xfrm>
                <a:off x="477360" y="32414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6" name="그룹 74"/>
            <p:cNvGrpSpPr/>
            <p:nvPr/>
          </p:nvGrpSpPr>
          <p:grpSpPr>
            <a:xfrm>
              <a:off x="1540080" y="3274920"/>
              <a:ext cx="622080" cy="269640"/>
              <a:chOff x="1540080" y="3274920"/>
              <a:chExt cx="622080" cy="269640"/>
            </a:xfrm>
          </p:grpSpPr>
          <p:grpSp>
            <p:nvGrpSpPr>
              <p:cNvPr id="157" name="그룹 75"/>
              <p:cNvGrpSpPr/>
              <p:nvPr/>
            </p:nvGrpSpPr>
            <p:grpSpPr>
              <a:xfrm>
                <a:off x="1540080" y="3274920"/>
                <a:ext cx="622080" cy="269640"/>
                <a:chOff x="1540080" y="3274920"/>
                <a:chExt cx="622080" cy="269640"/>
              </a:xfrm>
            </p:grpSpPr>
            <p:sp>
              <p:nvSpPr>
                <p:cNvPr id="158" name="직선 연결선 61"/>
                <p:cNvSpPr/>
                <p:nvPr/>
              </p:nvSpPr>
              <p:spPr>
                <a:xfrm>
                  <a:off x="1618200" y="3278880"/>
                  <a:ext cx="0" cy="9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59" name="타원 56"/>
                <p:cNvGrpSpPr/>
                <p:nvPr/>
              </p:nvGrpSpPr>
              <p:grpSpPr>
                <a:xfrm>
                  <a:off x="1540080" y="3350520"/>
                  <a:ext cx="212400" cy="194040"/>
                  <a:chOff x="1540080" y="3350520"/>
                  <a:chExt cx="212400" cy="194040"/>
                </a:xfrm>
              </p:grpSpPr>
              <p:pic>
                <p:nvPicPr>
                  <p:cNvPr id="160" name="타원 5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540080" y="3350520"/>
                    <a:ext cx="212400" cy="1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1" name=""/>
                  <p:cNvSpPr/>
                  <p:nvPr/>
                </p:nvSpPr>
                <p:spPr>
                  <a:xfrm>
                    <a:off x="1584000" y="3391920"/>
                    <a:ext cx="76320" cy="6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62" name="타원 58"/>
                <p:cNvGrpSpPr/>
                <p:nvPr/>
              </p:nvGrpSpPr>
              <p:grpSpPr>
                <a:xfrm>
                  <a:off x="1944720" y="3350520"/>
                  <a:ext cx="217440" cy="194040"/>
                  <a:chOff x="1944720" y="3350520"/>
                  <a:chExt cx="217440" cy="194040"/>
                </a:xfrm>
              </p:grpSpPr>
              <p:pic>
                <p:nvPicPr>
                  <p:cNvPr id="163" name="타원 5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44720" y="3350520"/>
                    <a:ext cx="217440" cy="1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1992240" y="3391920"/>
                    <a:ext cx="76320" cy="6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65" name="타원 59"/>
                <p:cNvGrpSpPr/>
                <p:nvPr/>
              </p:nvGrpSpPr>
              <p:grpSpPr>
                <a:xfrm>
                  <a:off x="1737360" y="3350520"/>
                  <a:ext cx="217440" cy="194040"/>
                  <a:chOff x="1737360" y="3350520"/>
                  <a:chExt cx="217440" cy="194040"/>
                </a:xfrm>
              </p:grpSpPr>
              <p:pic>
                <p:nvPicPr>
                  <p:cNvPr id="166" name="타원 5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37360" y="3350520"/>
                    <a:ext cx="217440" cy="1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"/>
                  <p:cNvSpPr/>
                  <p:nvPr/>
                </p:nvSpPr>
                <p:spPr>
                  <a:xfrm>
                    <a:off x="1784160" y="3391920"/>
                    <a:ext cx="76320" cy="6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68" name="직선 연결선 62"/>
                <p:cNvSpPr/>
                <p:nvPr/>
              </p:nvSpPr>
              <p:spPr>
                <a:xfrm>
                  <a:off x="1822680" y="3274920"/>
                  <a:ext cx="0" cy="9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9" name="직선 연결선 62"/>
                <p:cNvSpPr/>
                <p:nvPr/>
              </p:nvSpPr>
              <p:spPr>
                <a:xfrm>
                  <a:off x="2032920" y="3282840"/>
                  <a:ext cx="0" cy="9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70" name="직선 연결선 76"/>
              <p:cNvSpPr/>
              <p:nvPr/>
            </p:nvSpPr>
            <p:spPr>
              <a:xfrm>
                <a:off x="1593720" y="327492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1" name="그룹 83"/>
            <p:cNvGrpSpPr/>
            <p:nvPr/>
          </p:nvGrpSpPr>
          <p:grpSpPr>
            <a:xfrm>
              <a:off x="2579760" y="3286080"/>
              <a:ext cx="622080" cy="269640"/>
              <a:chOff x="2579760" y="3286080"/>
              <a:chExt cx="622080" cy="269640"/>
            </a:xfrm>
          </p:grpSpPr>
          <p:grpSp>
            <p:nvGrpSpPr>
              <p:cNvPr id="172" name="그룹 84"/>
              <p:cNvGrpSpPr/>
              <p:nvPr/>
            </p:nvGrpSpPr>
            <p:grpSpPr>
              <a:xfrm>
                <a:off x="2579760" y="3286080"/>
                <a:ext cx="622080" cy="269640"/>
                <a:chOff x="2579760" y="3286080"/>
                <a:chExt cx="622080" cy="269640"/>
              </a:xfrm>
            </p:grpSpPr>
            <p:sp>
              <p:nvSpPr>
                <p:cNvPr id="173" name="직선 연결선 61"/>
                <p:cNvSpPr/>
                <p:nvPr/>
              </p:nvSpPr>
              <p:spPr>
                <a:xfrm>
                  <a:off x="2660760" y="3290040"/>
                  <a:ext cx="0" cy="9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74" name="타원 56"/>
                <p:cNvGrpSpPr/>
                <p:nvPr/>
              </p:nvGrpSpPr>
              <p:grpSpPr>
                <a:xfrm>
                  <a:off x="2579760" y="3363480"/>
                  <a:ext cx="217440" cy="192240"/>
                  <a:chOff x="2579760" y="3363480"/>
                  <a:chExt cx="217440" cy="192240"/>
                </a:xfrm>
              </p:grpSpPr>
              <p:pic>
                <p:nvPicPr>
                  <p:cNvPr id="175" name="타원 5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9760" y="3363480"/>
                    <a:ext cx="2174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" name=""/>
                  <p:cNvSpPr/>
                  <p:nvPr/>
                </p:nvSpPr>
                <p:spPr>
                  <a:xfrm>
                    <a:off x="2626920" y="3404520"/>
                    <a:ext cx="76320" cy="6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77" name="타원 58"/>
                <p:cNvGrpSpPr/>
                <p:nvPr/>
              </p:nvGrpSpPr>
              <p:grpSpPr>
                <a:xfrm>
                  <a:off x="2989440" y="3363480"/>
                  <a:ext cx="212400" cy="192240"/>
                  <a:chOff x="2989440" y="3363480"/>
                  <a:chExt cx="212400" cy="192240"/>
                </a:xfrm>
              </p:grpSpPr>
              <p:pic>
                <p:nvPicPr>
                  <p:cNvPr id="178" name="타원 5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989440" y="3363480"/>
                    <a:ext cx="2124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9" name=""/>
                  <p:cNvSpPr/>
                  <p:nvPr/>
                </p:nvSpPr>
                <p:spPr>
                  <a:xfrm>
                    <a:off x="3034800" y="3404520"/>
                    <a:ext cx="76320" cy="6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0" name="타원 59"/>
                <p:cNvGrpSpPr/>
                <p:nvPr/>
              </p:nvGrpSpPr>
              <p:grpSpPr>
                <a:xfrm>
                  <a:off x="2782080" y="3363480"/>
                  <a:ext cx="212400" cy="192240"/>
                  <a:chOff x="2782080" y="3363480"/>
                  <a:chExt cx="212400" cy="192240"/>
                </a:xfrm>
              </p:grpSpPr>
              <p:pic>
                <p:nvPicPr>
                  <p:cNvPr id="181" name="타원 5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82080" y="3363480"/>
                    <a:ext cx="2124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2" name=""/>
                  <p:cNvSpPr/>
                  <p:nvPr/>
                </p:nvSpPr>
                <p:spPr>
                  <a:xfrm>
                    <a:off x="2826720" y="3404520"/>
                    <a:ext cx="76320" cy="6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83" name="직선 연결선 62"/>
                <p:cNvSpPr/>
                <p:nvPr/>
              </p:nvSpPr>
              <p:spPr>
                <a:xfrm>
                  <a:off x="2865240" y="3286080"/>
                  <a:ext cx="0" cy="9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84" name="직선 연결선 62"/>
                <p:cNvSpPr/>
                <p:nvPr/>
              </p:nvSpPr>
              <p:spPr>
                <a:xfrm>
                  <a:off x="3075480" y="3294360"/>
                  <a:ext cx="0" cy="9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85" name="직선 연결선 85"/>
              <p:cNvSpPr/>
              <p:nvPr/>
            </p:nvSpPr>
            <p:spPr>
              <a:xfrm>
                <a:off x="2633400" y="32860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6" name="그룹 92"/>
            <p:cNvGrpSpPr/>
            <p:nvPr/>
          </p:nvGrpSpPr>
          <p:grpSpPr>
            <a:xfrm>
              <a:off x="3652920" y="3306600"/>
              <a:ext cx="622080" cy="269640"/>
              <a:chOff x="3652920" y="3306600"/>
              <a:chExt cx="622080" cy="269640"/>
            </a:xfrm>
          </p:grpSpPr>
          <p:grpSp>
            <p:nvGrpSpPr>
              <p:cNvPr id="187" name="그룹 93"/>
              <p:cNvGrpSpPr/>
              <p:nvPr/>
            </p:nvGrpSpPr>
            <p:grpSpPr>
              <a:xfrm>
                <a:off x="3652920" y="3306600"/>
                <a:ext cx="622080" cy="269640"/>
                <a:chOff x="3652920" y="3306600"/>
                <a:chExt cx="622080" cy="269640"/>
              </a:xfrm>
            </p:grpSpPr>
            <p:sp>
              <p:nvSpPr>
                <p:cNvPr id="188" name="직선 연결선 61"/>
                <p:cNvSpPr/>
                <p:nvPr/>
              </p:nvSpPr>
              <p:spPr>
                <a:xfrm>
                  <a:off x="3734280" y="3310560"/>
                  <a:ext cx="0" cy="9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189" name="타원 56"/>
                <p:cNvGrpSpPr/>
                <p:nvPr/>
              </p:nvGrpSpPr>
              <p:grpSpPr>
                <a:xfrm>
                  <a:off x="3652920" y="3381480"/>
                  <a:ext cx="217440" cy="194760"/>
                  <a:chOff x="3652920" y="3381480"/>
                  <a:chExt cx="217440" cy="194760"/>
                </a:xfrm>
              </p:grpSpPr>
              <p:pic>
                <p:nvPicPr>
                  <p:cNvPr id="190" name="타원 5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652920" y="3381480"/>
                    <a:ext cx="217440" cy="19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3700080" y="3423960"/>
                    <a:ext cx="76320" cy="6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92" name="타원 58"/>
                <p:cNvGrpSpPr/>
                <p:nvPr/>
              </p:nvGrpSpPr>
              <p:grpSpPr>
                <a:xfrm>
                  <a:off x="4062600" y="3381480"/>
                  <a:ext cx="212400" cy="194760"/>
                  <a:chOff x="4062600" y="3381480"/>
                  <a:chExt cx="212400" cy="194760"/>
                </a:xfrm>
              </p:grpSpPr>
              <p:pic>
                <p:nvPicPr>
                  <p:cNvPr id="193" name="타원 5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062600" y="3381480"/>
                    <a:ext cx="212400" cy="19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" name=""/>
                  <p:cNvSpPr/>
                  <p:nvPr/>
                </p:nvSpPr>
                <p:spPr>
                  <a:xfrm>
                    <a:off x="4108320" y="3423960"/>
                    <a:ext cx="76320" cy="6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95" name="타원 59"/>
                <p:cNvGrpSpPr/>
                <p:nvPr/>
              </p:nvGrpSpPr>
              <p:grpSpPr>
                <a:xfrm>
                  <a:off x="3855240" y="3381480"/>
                  <a:ext cx="212400" cy="194760"/>
                  <a:chOff x="3855240" y="3381480"/>
                  <a:chExt cx="212400" cy="194760"/>
                </a:xfrm>
              </p:grpSpPr>
              <p:pic>
                <p:nvPicPr>
                  <p:cNvPr id="196" name="타원 59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855240" y="3381480"/>
                    <a:ext cx="212400" cy="19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" name=""/>
                  <p:cNvSpPr/>
                  <p:nvPr/>
                </p:nvSpPr>
                <p:spPr>
                  <a:xfrm>
                    <a:off x="3899880" y="3423960"/>
                    <a:ext cx="76320" cy="6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 marL="343080" indent="-343080">
                      <a:spcBef>
                        <a:spcPts val="700"/>
                      </a:spcBef>
                      <a:buClr>
                        <a:srgbClr val="80808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98" name="직선 연결선 62"/>
                <p:cNvSpPr/>
                <p:nvPr/>
              </p:nvSpPr>
              <p:spPr>
                <a:xfrm>
                  <a:off x="3938400" y="3306600"/>
                  <a:ext cx="0" cy="9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9" name="직선 연결선 62"/>
                <p:cNvSpPr/>
                <p:nvPr/>
              </p:nvSpPr>
              <p:spPr>
                <a:xfrm>
                  <a:off x="4148640" y="3314520"/>
                  <a:ext cx="0" cy="9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0" name="직선 연결선 94"/>
              <p:cNvSpPr/>
              <p:nvPr/>
            </p:nvSpPr>
            <p:spPr>
              <a:xfrm>
                <a:off x="3706560" y="330660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장 동독 산재보험제도의 재구축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방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 국가협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산재보험을 서독에 준하는 보험체계로 전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활의 통합 체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매결연의 원칙에 따라 서독 산재보험자의 참여와 조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 국가협약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일협약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 이식과 관련하여 서독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합이 자신들의 업무영역을 동독 지역으로 확대하는 방식으로 진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92.01.0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독의 산재보험법이 동독에서 동일하게 적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도 이식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합주의 원칙에 입각하여 동서독 산재보험제도의 통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업급여 및 장해연금의 서독지역 산재보험법의 급여 산식에 따라 재산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92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이전 구 동독지역에서 발생하였던 산업재해에 대한 책임은 분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에 따라 조합들간 공동으로 분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동독 산재보험제도의 재구축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제도의 재구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 경제화폐 사회통합에 대한 국가협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 국가협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 동독지역의 산재보험 재구축을 위한 법적 정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독지역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“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가협약 이행법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는 동독지역의 제도전환을 위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적교류 체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지역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『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보험에 관한 법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』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지역에 신설되는 산재보험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우 예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상급여가 서로 연계되어 운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제점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문인력 채용의 문제점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업안전요원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행정인력의 확보에 어려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보험으로의 취업기피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성인력의 지역의보 선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업병 환자에 대한 보호의 적절성 재검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 휴업급여 및 연금급여의 재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동서독 산재보험의 통합과 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한 주요 이슈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2247840"/>
            <a:ext cx="8280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라늄 광산회사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DAG Wismut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처리 절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smut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동독지역에 소재하는 소련과 동독의 합작주식회사로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라늄의 채굴과 수송을 전담하였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 회사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4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9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통일 당시까지 운영하였으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폭탄 생산에 필요한 우라늄의 생산을 전담하였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지만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smut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미국과의 군비경쟁을 따라가기 위해서 무분별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굴을 하였고 그 결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수히 많은 사람들을 동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명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여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명의 희생과 참혹한 환경재앙을 초래하였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독일의 통일 정부는 피해에 대한 보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우라늄 광산 근로자의 폐암 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환경복원비용을 감당하여야만 했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동서독 산재보험의 통합과 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한 주요 이슈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4920" y="2176200"/>
            <a:ext cx="8280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정조정사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속한 산업구조의 변화에 따라 개별산재보험조합들 상호간 재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지의 불균형과 보험료 편차를 공정하게 조정하여 형평성 문제해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재정조정사업의 취지를 통일 이후 구 동독 연금채무의 조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위한 일환으로 활용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장 통일의 경제사회적 성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독일의  정치적 통일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 통일협약의 발효에 따라 완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하지만 지역간 경제력 그리고 생활수준 격차의 해소를 목표로 하는 경제통합과 사회통합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이 지난 오늘날에도 여전히 진행중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주인구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GDP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가처분소득은 약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격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서독지역의 재정적 지원으로 충당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5" name="_x75962840" descr="DRW000000d8383c"/>
          <p:cNvPicPr/>
          <p:nvPr/>
        </p:nvPicPr>
        <p:blipFill>
          <a:blip r:embed="rId1"/>
          <a:stretch/>
        </p:blipFill>
        <p:spPr>
          <a:xfrm>
            <a:off x="395280" y="2781360"/>
            <a:ext cx="8207280" cy="3816360"/>
          </a:xfrm>
          <a:prstGeom prst="rect">
            <a:avLst/>
          </a:prstGeom>
          <a:ln w="0">
            <a:noFill/>
          </a:ln>
        </p:spPr>
      </p:pic>
      <p:sp>
        <p:nvSpPr>
          <p:cNvPr id="336" name="직사각형 5"/>
          <p:cNvSpPr/>
          <p:nvPr/>
        </p:nvSpPr>
        <p:spPr>
          <a:xfrm>
            <a:off x="468360" y="1989000"/>
            <a:ext cx="8136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거주인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․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경제활동인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당 가처분소득과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국내총생산의 동서독지역 비교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199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~200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8446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당 국내총생산의 동서독지역 비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서독지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100%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대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8" name="그림 3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7775280" cy="33130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39528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통일 초기 동독지역 주민들의 소득수준은 빠르게 증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통일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 이후 부동산위기 등 통일 후유증으로 인해 한동안 마이너스의 성장을 기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000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대에 들어와 완만한 성장세를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통일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이 지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01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 현재 동독지역의 경제수준은 서독지역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70%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수준을 약간 상회하고 있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351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동독지역의 실업률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996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~200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동안 서독지역의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배 가량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특히 여성의 경우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배를 기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후 비록 양 지역의 실업률은 공히 하락하였으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양 지역의 차이는 여전히 두 배 가량의 수준을 유지해 오고 있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9360" y="2310480"/>
            <a:ext cx="888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동서독 실업률의 비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1998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~200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명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%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2" name="그림 2" descr=""/>
          <p:cNvPicPr/>
          <p:nvPr/>
        </p:nvPicPr>
        <p:blipFill>
          <a:blip r:embed="rId1"/>
          <a:stretch/>
        </p:blipFill>
        <p:spPr>
          <a:xfrm>
            <a:off x="558720" y="2997360"/>
            <a:ext cx="804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그림 4" descr=""/>
          <p:cNvPicPr/>
          <p:nvPr/>
        </p:nvPicPr>
        <p:blipFill>
          <a:blip r:embed="rId1"/>
          <a:stretch/>
        </p:blipFill>
        <p:spPr>
          <a:xfrm>
            <a:off x="600120" y="2924280"/>
            <a:ext cx="8004240" cy="3457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39280" y="2382840"/>
            <a:ext cx="8075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별 빈곤위험률 분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2013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그리고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15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395280" y="33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별 빈곤위험률은 비록 브레멘이 가장 높게 나타나고 있으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으로는 구동독지역인 신설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개주와 베를린이 높은 수준을 보이고 있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그림 5" descr=""/>
          <p:cNvPicPr/>
          <p:nvPr/>
        </p:nvPicPr>
        <p:blipFill>
          <a:blip r:embed="rId1"/>
          <a:stretch/>
        </p:blipFill>
        <p:spPr>
          <a:xfrm>
            <a:off x="496800" y="3573360"/>
            <a:ext cx="8396280" cy="28083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506520" y="3068280"/>
            <a:ext cx="83865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독일 전일제 노동자의 임금 지역별 비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250920" y="26028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전일제 노동자의 임금수준은 함부르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헤센 등 서독지역이 전반적으로 높은 순위를 차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반면에 동독지역인 브란덴부르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작센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작센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안할트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튀링엔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메클렌부르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포어폼먼주가 임금수준에 있어서 가장 낮은 순위 기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임금수준의 지역간 편차도 현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함부르크 약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3,85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유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메클렌부르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포어폼먼 약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,70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유로로 양 지역간 격차는 약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,15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유로로 나타나고 있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사회보장체계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보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공부조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가원호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사회보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)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 특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합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편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등한 국민보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ational Insuranc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→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로자 사회보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90.3%)(FDGB: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독일자유노동조합연맹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→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 국가사회보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8.9%)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경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분이나 종사영역의 구분에 따라 매우 차별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타적 제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→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로자 사회보장제도 특별사회보장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3" name="그룹 6"/>
          <p:cNvGrpSpPr/>
          <p:nvPr/>
        </p:nvGrpSpPr>
        <p:grpSpPr>
          <a:xfrm>
            <a:off x="3492360" y="1989000"/>
            <a:ext cx="4608720" cy="2087640"/>
            <a:chOff x="3492360" y="1989000"/>
            <a:chExt cx="4608720" cy="2087640"/>
          </a:xfrm>
        </p:grpSpPr>
        <p:sp>
          <p:nvSpPr>
            <p:cNvPr id="204" name="직사각형 2"/>
            <p:cNvSpPr/>
            <p:nvPr/>
          </p:nvSpPr>
          <p:spPr>
            <a:xfrm>
              <a:off x="3492360" y="2301480"/>
              <a:ext cx="4608720" cy="1775160"/>
            </a:xfrm>
            <a:prstGeom prst="rect">
              <a:avLst/>
            </a:prstGeom>
            <a:noFill/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직사각형 7"/>
            <p:cNvSpPr/>
            <p:nvPr/>
          </p:nvSpPr>
          <p:spPr>
            <a:xfrm>
              <a:off x="5005080" y="1989000"/>
              <a:ext cx="12952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국민보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타원 5"/>
            <p:cNvSpPr/>
            <p:nvPr/>
          </p:nvSpPr>
          <p:spPr>
            <a:xfrm>
              <a:off x="3687480" y="2824200"/>
              <a:ext cx="741240" cy="67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망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타원 9"/>
            <p:cNvSpPr/>
            <p:nvPr/>
          </p:nvSpPr>
          <p:spPr>
            <a:xfrm>
              <a:off x="4481280" y="3308400"/>
              <a:ext cx="739800" cy="695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노령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타원 10"/>
            <p:cNvSpPr/>
            <p:nvPr/>
          </p:nvSpPr>
          <p:spPr>
            <a:xfrm>
              <a:off x="4474800" y="2420640"/>
              <a:ext cx="745920" cy="695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실업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타원 11"/>
            <p:cNvSpPr/>
            <p:nvPr/>
          </p:nvSpPr>
          <p:spPr>
            <a:xfrm>
              <a:off x="5378400" y="3281400"/>
              <a:ext cx="777960" cy="722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장애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타원 12"/>
            <p:cNvSpPr/>
            <p:nvPr/>
          </p:nvSpPr>
          <p:spPr>
            <a:xfrm>
              <a:off x="6300720" y="3213000"/>
              <a:ext cx="8049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질병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타원 13"/>
            <p:cNvSpPr/>
            <p:nvPr/>
          </p:nvSpPr>
          <p:spPr>
            <a:xfrm>
              <a:off x="5384880" y="2420640"/>
              <a:ext cx="771480" cy="67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산재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타원 18"/>
            <p:cNvSpPr/>
            <p:nvPr/>
          </p:nvSpPr>
          <p:spPr>
            <a:xfrm>
              <a:off x="7164360" y="2844720"/>
              <a:ext cx="761760" cy="65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모성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타원 20"/>
            <p:cNvSpPr/>
            <p:nvPr/>
          </p:nvSpPr>
          <p:spPr>
            <a:xfrm>
              <a:off x="6300720" y="2420640"/>
              <a:ext cx="785880" cy="704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장기요양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서독지역 여성 합계출산율의 변화 추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0" name="그림 4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8136000" cy="38163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7"/>
          <p:cNvSpPr/>
          <p:nvPr/>
        </p:nvSpPr>
        <p:spPr>
          <a:xfrm>
            <a:off x="324000" y="18900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통일 이후 동독지역 여성의 합계출산율에 있어서도 큰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통일 당시인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동독지역 출산율은 서독을 약간 상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하지만 이후 급격하게 하락하여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994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에는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.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로 서독의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.3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에 비해 절반 수준으로 하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5840" indent="-28584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후 재차 상승하여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007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이후부터는 서독지역 출산율을 상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GDP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비 사회복지지출총액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구동독지역 약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50%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구서독지역 약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일정부의 재정적 지원 가운데 절반 가량이 사회복지비용으로 지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직사각형 3"/>
          <p:cNvSpPr/>
          <p:nvPr/>
        </p:nvSpPr>
        <p:spPr>
          <a:xfrm>
            <a:off x="395280" y="2349360"/>
            <a:ext cx="828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일 사회복지지출비율의 변화추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1960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~2005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539640" y="2852640"/>
          <a:ext cx="8072640" cy="37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852640"/>
                    <a:ext cx="807264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결론 및 시사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□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독일 통일방식의 문제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일전략의 미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적 기반이 취약한 동독과 정치적 고려에 입각한 관대한 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독화폐의 과도한 평가절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서독간 임금격차의 신속한 해소전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급속한 사회통합과 지나치게 관대한 급여수준의 인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부정적 현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독기업의 경쟁력 상실과 고도실업의 문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 재정지출의 상승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독경제의 서독 의존성 심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□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독일 사회통합의 긍정적 그리고 부정적 시사점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서독 중심의 일관적이고 경로종속적인 방향의 사회통합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: 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경제질서와 사회질서의 관련성 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②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신속하고 급진적 제도 통합 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③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경과규정이나 임시규정의 한시적 적용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통일에 대비하여 연방정부 또는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보험의 차원에서도 통일기금이나 적립기금을 비축해 두지 않았음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: 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기금의 무용론 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②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기금으로 인한 지역간 갈등 조장의 우려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통합의 비용 가운데 상당부분을 양쪽 지역 사회보험 상호간 재정조정사업을 통해 충당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: 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동서독 지역 공히 보험료의 인상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통일 전기간 동안 대략 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6%)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②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인건비 전가에 따른 고용불안과 대량실업의 주요 요인 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③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물가인상에 따른 대외 가격경쟁력 약화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통일 과도기 사회보험재정의 불안정은 보험 차원의 문제가 아니라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정치적 차원에서 통일로 인해 야기된 문제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→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따라서 일반재정으로 충당하여야 할 과제임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통일 이후 부정적 파급효과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대량실업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장기경기침체 등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의 원인 가운데 상당부분은 통일이라는 역사적 사건으로 인한 불가피한 결과가 아니라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통일 전략의 미숙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통일비용 부담주체 선정의 무원칙성 등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으로 인해 야기된 결과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토론논점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장기적이고 점진적인 방식의 사회통합이 가능할 수 있었을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급여수준의 점진적 상향조정이 가능할 수 있었을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급속한 체제전환과 관대한 화폐통합이 과연 정치논리에 입각한 무리한 조치이었는가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?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경제적 합리성과 정치적 합리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통일에 대한 대비책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통일기금의 조성이 바람직한 방안이 될 수 있을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000000"/>
                </a:solidFill>
                <a:latin typeface="굴림"/>
              </a:rPr>
              <a:t>감사합니다</a:t>
            </a:r>
            <a:r>
              <a:rPr b="0" lang="en-US" sz="5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굴림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굴림"/>
              </a:rPr>
              <a:t>Vielen Dank!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920" y="360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)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사회보험 인프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□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보험 행정에 있어서 기업의 역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55600" y="3933720"/>
            <a:ext cx="864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3)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로 및 작업환경에 대한 감독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업안전 및 보건업무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예방은 해당 기업소에서 일차적 책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작업장 감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FDG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작업장 위생검사와 안전관리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사고나 작업병 판정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험급여의 산정 및 지급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기업소의 노동조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의 불법 또는 중대한 과실로 인한 산재사고 → 해당 기업이 제반비용 부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분담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all-umlage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별로 산재사고 실적에 따라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% - 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1"/>
          <p:cNvSpPr/>
          <p:nvPr/>
        </p:nvSpPr>
        <p:spPr>
          <a:xfrm>
            <a:off x="501480" y="1181160"/>
            <a:ext cx="772668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의 사회보험 지원 기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①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급여의 산정 및 지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②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금신청서의 접수 및 퇴직상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③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로자의 재취업과 산재예방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 내 급여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사부 소속의 사회보험과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V-Stell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보험 행정인력의 대량적 감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195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→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6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수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79080"/>
            <a:ext cx="856908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건의료체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kip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노동행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노동권의 헌법적 보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직업알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노동행정기관에서 기업소에 일방적으로 인력 배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업률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%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의 실현으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실업보험의 폐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의 사회부조제도와 사회복지서비스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합사회보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광범위한 보조금제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괄적 기업복지 등 일차안전망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충에 따라 이차적 안전망은 그 역할 영역이 지속적으로 위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부조 수급계층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527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0) → 167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60) → 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2960" y="6922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동서독 산재보험제도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4920" y="206064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 산재보험제도의 발전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별한 노선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통과의 단절과 전통의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업조합의 폐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률적 자치조직으로서 자본주의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대적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탄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독 산재보험의 도입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베를린과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주의 사회보험공단 설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재예방기능은 동업조합에서 국가기관인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로감독청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이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단위의 지사에서 사회보험금고를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83760" indent="-383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27:12Z</dcterms:created>
  <dc:creator>이정우</dc:creator>
  <dc:description/>
  <dc:language>en-US</dc:language>
  <cp:lastModifiedBy>이정우</cp:lastModifiedBy>
  <cp:lastPrinted>2017-08-05T05:00:52Z</cp:lastPrinted>
  <dcterms:modified xsi:type="dcterms:W3CDTF">2017-09-20T11:32:33Z</dcterms:modified>
  <cp:revision>108</cp:revision>
  <dc:subject/>
  <dc:title>독일의 통일과  복지국가의 역할</dc:title>
</cp:coreProperties>
</file>